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projctor.wav" ContentType="audio/x-wav"/>
  <Override PartName="/ppt/media/image5.png" ContentType="image/png"/>
  <Override PartName="/ppt/media/image10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7F1-6EF3-4B63-B289-25B341C5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C9F-7056-4D48-92C1-4F8957C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B84-BC6A-4559-8662-3876567A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AB7-8FF6-4C8B-9F73-92C17E0B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310-5FE5-4B3F-9439-1C0C1A9B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4BE-B3CC-4DF9-A65D-2455BA4A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8B9-C89C-43E7-95D7-E39603E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F90-A840-4E7D-AF37-F1B4948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507-F3C4-4D29-98A9-AE626CB5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7B5-4A25-4810-872B-262D1A8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41C-D295-476C-9E04-0AF6714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01A-4F09-4795-BA98-7F8B1BE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1EE-B36D-4348-9F3D-0D52CD3C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image" Target="../media/image7.png"/><Relationship Id="rId10" Type="http://schemas.openxmlformats.org/officeDocument/2006/relationships/hyperlink" Target="http://www.eutelsat.it/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hyperlink" Target="file:///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hyperlink" Target="http://www.rai.it/" TargetMode="External"/><Relationship Id="rId18" Type="http://schemas.openxmlformats.org/officeDocument/2006/relationships/image" Target="../media/image14.png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5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960" y="763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f9"/>
                </a:solidFill>
                <a:latin typeface="Arial"/>
              </a:rPr>
              <a:t>La S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43120" y="1114560"/>
            <a:ext cx="6672240" cy="4514760"/>
          </a:xfrm>
          <a:prstGeom prst="rect">
            <a:avLst/>
          </a:prstGeom>
          <a:solidFill>
            <a:srgbClr val="a4b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11320" y="1492200"/>
            <a:ext cx="6120000" cy="38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00160" y="1486080"/>
            <a:ext cx="61153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4560" y="1471680"/>
            <a:ext cx="6114960" cy="38289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452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248520" y="6324480"/>
          <a:ext cx="25146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6324480"/>
                    <a:ext cx="2514600" cy="428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198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19440" y="26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250040" y="4114800"/>
            <a:ext cx="1665360" cy="2514600"/>
            <a:chOff x="7250040" y="4114800"/>
            <a:chExt cx="1665360" cy="2514600"/>
          </a:xfrm>
        </p:grpSpPr>
        <p:sp>
          <p:nvSpPr>
            <p:cNvPr id="55" name=""/>
            <p:cNvSpPr/>
            <p:nvPr/>
          </p:nvSpPr>
          <p:spPr>
            <a:xfrm>
              <a:off x="7250040" y="4114800"/>
              <a:ext cx="1644840" cy="2514600"/>
            </a:xfrm>
            <a:custGeom>
              <a:avLst/>
              <a:gdLst>
                <a:gd name="textAreaLeft" fmla="*/ 80280 w 1644840"/>
                <a:gd name="textAreaRight" fmla="*/ 1564560 w 1644840"/>
                <a:gd name="textAreaTop" fmla="*/ 80280 h 2514600"/>
                <a:gd name="textAreaBottom" fmla="*/ 2434320 h 2514600"/>
              </a:gdLst>
              <a:ahLst/>
              <a:rect l="textAreaLeft" t="textAreaTop" r="textAreaRight" b="textAreaBottom"/>
              <a:pathLst>
                <a:path w="21600" h="33019">
                  <a:moveTo>
                    <a:pt x="3600" y="0"/>
                  </a:moveTo>
                  <a:arcTo wR="3600" hR="3600" stAng="16200000" swAng="-5400000"/>
                  <a:lnTo>
                    <a:pt x="0" y="29419"/>
                  </a:lnTo>
                  <a:arcTo wR="3600" hR="3600" stAng="10800000" swAng="-5400000"/>
                  <a:lnTo>
                    <a:pt x="18000" y="330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50040" y="4695840"/>
              <a:ext cx="16448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7250040" y="4405320"/>
            <a:ext cx="1644840" cy="21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50040" y="4405320"/>
                      <a:ext cx="1644840" cy="2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443720" y="6195960"/>
              <a:ext cx="12574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250040" y="4888080"/>
              <a:ext cx="166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rso intensivo  di domotica      sui sistemi di automazione domestica.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33520" y="1600200"/>
            <a:ext cx="8305560" cy="81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utura Md BT"/>
              </a:rPr>
              <a:t>I corsi di formazione profess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utura Md BT"/>
              </a:rPr>
              <a:t>più famosi e frequentati d’Italia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05120" y="380880"/>
            <a:ext cx="5181480" cy="83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1447920" y="2819520"/>
            <a:ext cx="7010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mportanti divisioni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per il successo dei tecnici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97560" y="4113360"/>
            <a:ext cx="1665360" cy="2516040"/>
            <a:chOff x="5497560" y="4113360"/>
            <a:chExt cx="1665360" cy="2516040"/>
          </a:xfrm>
        </p:grpSpPr>
        <p:sp>
          <p:nvSpPr>
            <p:cNvPr id="65" name=""/>
            <p:cNvSpPr/>
            <p:nvPr/>
          </p:nvSpPr>
          <p:spPr>
            <a:xfrm>
              <a:off x="549756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9756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88080" y="6164280"/>
              <a:ext cx="106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Nina"/>
                </a:rPr>
                <a:t>BT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5497560" y="4389480"/>
              <a:ext cx="165888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497560" y="4800600"/>
              <a:ext cx="1665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e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ablaggio struttur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Fibra ottica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943600" y="5996160"/>
            <a:ext cx="838080" cy="1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3600" y="5996160"/>
                      <a:ext cx="83808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228600" y="4113360"/>
            <a:ext cx="1676520" cy="2516040"/>
            <a:chOff x="228600" y="4113360"/>
            <a:chExt cx="1676520" cy="2516040"/>
          </a:xfrm>
        </p:grpSpPr>
        <p:sp>
          <p:nvSpPr>
            <p:cNvPr id="73" name=""/>
            <p:cNvSpPr/>
            <p:nvPr/>
          </p:nvSpPr>
          <p:spPr>
            <a:xfrm>
              <a:off x="22860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9"/>
            <a:stretch/>
          </p:blipFill>
          <p:spPr>
            <a:xfrm>
              <a:off x="325440" y="4403880"/>
              <a:ext cx="145080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28600" y="4800600"/>
              <a:ext cx="1676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icezione e distribuzione dei segnali televisivi: terrestre e satellitare.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Eutelsat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19120" y="6172200"/>
              <a:ext cx="1160280" cy="35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1981080" y="4113360"/>
            <a:ext cx="1656000" cy="2516040"/>
            <a:chOff x="1981080" y="4113360"/>
            <a:chExt cx="1656000" cy="2516040"/>
          </a:xfrm>
        </p:grpSpPr>
        <p:sp>
          <p:nvSpPr>
            <p:cNvPr id="79" name=""/>
            <p:cNvSpPr/>
            <p:nvPr/>
          </p:nvSpPr>
          <p:spPr>
            <a:xfrm>
              <a:off x="1992240" y="4113360"/>
              <a:ext cx="1644840" cy="2516040"/>
            </a:xfrm>
            <a:custGeom>
              <a:avLst/>
              <a:gdLst>
                <a:gd name="textAreaLeft" fmla="*/ 80280 w 1644840"/>
                <a:gd name="textAreaRight" fmla="*/ 1564560 w 164484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38">
                  <a:moveTo>
                    <a:pt x="3600" y="0"/>
                  </a:moveTo>
                  <a:arcTo wR="3600" hR="3600" stAng="16200000" swAng="-5400000"/>
                  <a:lnTo>
                    <a:pt x="0" y="29438"/>
                  </a:lnTo>
                  <a:arcTo wR="3600" hR="3600" stAng="10800000" swAng="-5400000"/>
                  <a:lnTo>
                    <a:pt x="18000" y="33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ccffff"/>
                </a:gs>
              </a:gsLst>
              <a:lin ang="5400000"/>
            </a:gra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2240" y="4694400"/>
              <a:ext cx="16448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2"/>
            <a:stretch/>
          </p:blipFill>
          <p:spPr>
            <a:xfrm>
              <a:off x="2089080" y="4403880"/>
              <a:ext cx="145116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ViaSat, Inc.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2282760" y="6242040"/>
              <a:ext cx="10638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981080" y="4724280"/>
              <a:ext cx="1600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istemi di comunicazione satellitari    bidirezionali                  a larga banda                (V-SAT).</a:t>
              </a:r>
              <a:r>
                <a:rPr b="1" lang="it-IT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5"/>
            <a:stretch/>
          </p:blipFill>
          <p:spPr>
            <a:xfrm>
              <a:off x="2438280" y="5943600"/>
              <a:ext cx="762120" cy="22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3745080" y="4113360"/>
            <a:ext cx="1665000" cy="2516040"/>
            <a:chOff x="3745080" y="4113360"/>
            <a:chExt cx="1665000" cy="2516040"/>
          </a:xfrm>
        </p:grpSpPr>
        <p:sp>
          <p:nvSpPr>
            <p:cNvPr id="86" name=""/>
            <p:cNvSpPr/>
            <p:nvPr/>
          </p:nvSpPr>
          <p:spPr>
            <a:xfrm>
              <a:off x="374508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508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5080" y="4724280"/>
              <a:ext cx="1665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icezione fissa per la distribuzione su impianti SMATV Ricezione mobile e portati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4419720"/>
              <a:ext cx="755640" cy="17928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0720" y="4419720"/>
              <a:ext cx="898200" cy="1792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63800" y="4437000"/>
              <a:ext cx="1616400" cy="14760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logo della Fondazione Ugo Bordoni"/>
            <p:cNvPicPr/>
            <p:nvPr/>
          </p:nvPicPr>
          <p:blipFill>
            <a:blip r:embed="rId16"/>
            <a:stretch/>
          </p:blipFill>
          <p:spPr>
            <a:xfrm>
              <a:off x="3962520" y="6400800"/>
              <a:ext cx="1143000" cy="1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ai_logo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4114800" y="6005520"/>
              <a:ext cx="838080" cy="3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914400" y="2743200"/>
            <a:ext cx="914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66"/>
                </a:solidFill>
                <a:latin typeface="Cataneo BT"/>
              </a:rPr>
              <a:t>5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26828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093b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rmazioni completamente autofinanz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aboratori ed aule in oltre 2000 m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nsegnati e ricercatori in orga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entro accreditato presso la Reg.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 più importanti sinergie e partnership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UTELSAT, MEDIASET, RAI, LA7, DFRE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GTVi, BTICINO, SKY ITAL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76500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16000" y="3284640"/>
            <a:ext cx="3207960" cy="360360"/>
            <a:chOff x="1116000" y="3284640"/>
            <a:chExt cx="3207960" cy="360360"/>
          </a:xfrm>
        </p:grpSpPr>
        <p:sp>
          <p:nvSpPr>
            <p:cNvPr id="111" name=""/>
            <p:cNvSpPr/>
            <p:nvPr/>
          </p:nvSpPr>
          <p:spPr>
            <a:xfrm>
              <a:off x="1116000" y="3284640"/>
              <a:ext cx="32079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6880" y="3302640"/>
              <a:ext cx="1445400" cy="32256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82640" y="3302640"/>
              <a:ext cx="1719000" cy="32256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73600" y="3332520"/>
              <a:ext cx="3092760" cy="26712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3456000" cy="59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83520" y="1773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l più importante centr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azione professionale su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cnologie domest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ù avanzate ed innov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3168720" cy="3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168720" cy="4507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60280"/>
            <a:ext cx="4032360" cy="2376720"/>
          </a:xfrm>
          <a:prstGeom prst="roundRect">
            <a:avLst>
              <a:gd name="adj" fmla="val 16667"/>
            </a:avLst>
          </a:pr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Oltre 1200 installatori hanno gi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frequentato il corso D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1200 tecnici in grado di rendere pi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semplice l’ingresso della nu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tecnologia televisiva che collaborano con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GTVi  RAI  Mediaset  La7  D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9640" y="333360"/>
            <a:ext cx="3207960" cy="358920"/>
            <a:chOff x="539640" y="333360"/>
            <a:chExt cx="3207960" cy="358920"/>
          </a:xfrm>
        </p:grpSpPr>
        <p:sp>
          <p:nvSpPr>
            <p:cNvPr id="138" name=""/>
            <p:cNvSpPr/>
            <p:nvPr/>
          </p:nvSpPr>
          <p:spPr>
            <a:xfrm>
              <a:off x="539640" y="333360"/>
              <a:ext cx="320796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520" y="351000"/>
              <a:ext cx="1445400" cy="32112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06280" y="351000"/>
              <a:ext cx="1719000" cy="32112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7240" y="380880"/>
              <a:ext cx="3092760" cy="26604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457800" cy="2490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895840" cy="2171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16360" y="692280"/>
            <a:ext cx="2833920" cy="189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sp>
        <p:nvSpPr>
          <p:cNvPr id="146" name=""/>
          <p:cNvSpPr/>
          <p:nvPr/>
        </p:nvSpPr>
        <p:spPr>
          <a:xfrm>
            <a:off x="7524720" y="1628640"/>
            <a:ext cx="16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530064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0"/>
            <a:ext cx="0" cy="620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820000" y="2924280"/>
            <a:ext cx="32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52640"/>
            <a:ext cx="4032360" cy="237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Ogni tecnico lavora in azi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omposte da un numer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addetti che va dai 2 ai 10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dipendenti e soci, questo signi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he il numero di install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oinvolti è di circa </a:t>
            </a:r>
            <a:r>
              <a:rPr b="1" lang="en-US" sz="2000" spc="-1" strike="noStrike" u="sng">
                <a:solidFill>
                  <a:srgbClr val="ffe05b"/>
                </a:solidFill>
                <a:uFillTx/>
                <a:latin typeface="Arial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su un totale di 4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15920"/>
            <a:ext cx="5041800" cy="936720"/>
          </a:xfrm>
          <a:prstGeom prst="roundRect">
            <a:avLst>
              <a:gd name="adj" fmla="val 16667"/>
            </a:avLst>
          </a:pr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 nuovi profili professionali creati dalla D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involti nei nostri corsi (c.5000 azien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 incontri formativi (c.12000 tecnici per an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115920"/>
            <a:ext cx="1238040" cy="123804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icezion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1484280"/>
            <a:ext cx="122400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rasmi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852640"/>
            <a:ext cx="123804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eb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4221000"/>
            <a:ext cx="123804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ntenu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125360"/>
            <a:ext cx="985680" cy="9860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telef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fi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05000"/>
            <a:ext cx="985680" cy="9860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telef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284640"/>
            <a:ext cx="985680" cy="9856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cabl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struttu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4365720"/>
            <a:ext cx="985680" cy="9856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domo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2492280"/>
            <a:ext cx="1814400" cy="18147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TERR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84360" y="3357720"/>
            <a:ext cx="7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84360" y="1557000"/>
            <a:ext cx="0" cy="180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3357720"/>
            <a:ext cx="0" cy="151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123640" y="1557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2637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3789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123640" y="4869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692280"/>
            <a:ext cx="0" cy="4249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3357720"/>
            <a:ext cx="576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69228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580000" y="2133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357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4941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1125360"/>
            <a:ext cx="2521080" cy="914400"/>
          </a:xfrm>
          <a:prstGeom prst="roundRect">
            <a:avLst>
              <a:gd name="adj" fmla="val 16667"/>
            </a:avLst>
          </a:prstGeom>
          <a:solidFill>
            <a:srgbClr val="f9fec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Giro d’affari stimat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6 mld di Euro in 3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26828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655a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Con il nostro sito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1"/>
                </a:solidFill>
                <a:uFillTx/>
                <a:latin typeface="Arial"/>
              </a:rPr>
              <a:t>www.digitaleterrestr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nel mese di genn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abbiamo raggi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1"/>
                </a:solidFill>
                <a:latin typeface="Arial"/>
              </a:rPr>
              <a:t>2.300.000 cont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76500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f8ba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traverso le no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sletter settiman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ngono inform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ltre 10.000 addetti ai lavor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ossisti ed Install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1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404640"/>
            <a:ext cx="5689800" cy="3384720"/>
          </a:xfrm>
          <a:prstGeom prst="roundRect">
            <a:avLst>
              <a:gd name="adj" fmla="val 16667"/>
            </a:avLst>
          </a:prstGeom>
          <a:solidFill>
            <a:srgbClr val="f4e784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ROSATELL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è a disposizione degli Enti che necessitan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getti di formazione dedic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i dipendenti degli Enti Pubb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sulenza sulle tecnologie di 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i di tecnici e install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ti sul territorio 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3860640"/>
            <a:ext cx="4608720" cy="11304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3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8:37:50Z</dcterms:created>
  <dc:creator>pippo</dc:creator>
  <dc:description/>
  <dc:language>en-US</dc:language>
  <cp:lastModifiedBy>AB</cp:lastModifiedBy>
  <dcterms:modified xsi:type="dcterms:W3CDTF">2005-06-10T06:09:29Z</dcterms:modified>
  <cp:revision>45</cp:revision>
  <dc:subject/>
  <dc:title>Diapositiva 1</dc:title>
</cp:coreProperties>
</file>