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04680" y="4714920"/>
            <a:ext cx="4971960" cy="41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069560" y="861480"/>
            <a:ext cx="464364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Verdana"/>
              </a:rPr>
              <a:t>Click to move the slide</a:t>
            </a:r>
            <a:endParaRPr b="0" i="1" lang="en-US" sz="4400" spc="-1" strike="noStrike">
              <a:solidFill>
                <a:srgbClr val="fafd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65840" cy="3724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96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44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6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56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44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6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44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600" y="175248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56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44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600" y="4220640"/>
            <a:ext cx="2723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8600" y="422064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752480"/>
            <a:ext cx="41274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4220640"/>
            <a:ext cx="8458200" cy="22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4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52560" indent="-190440">
              <a:spcBef>
                <a:spcPts val="1400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33440" indent="-190440">
              <a:spcBef>
                <a:spcPts val="1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14680" indent="-190800">
              <a:spcBef>
                <a:spcPts val="1400"/>
              </a:spcBef>
              <a:buClr>
                <a:srgbClr val="d073c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14680" indent="-190800">
              <a:spcBef>
                <a:spcPts val="1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14680" indent="-190800">
              <a:spcBef>
                <a:spcPts val="1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" name="LCI_logo" descr=""/>
          <p:cNvPicPr/>
          <p:nvPr/>
        </p:nvPicPr>
        <p:blipFill>
          <a:blip r:embed="rId2"/>
          <a:stretch/>
        </p:blipFill>
        <p:spPr>
          <a:xfrm>
            <a:off x="0" y="76320"/>
            <a:ext cx="1073160" cy="990360"/>
          </a:xfrm>
          <a:prstGeom prst="rect">
            <a:avLst/>
          </a:prstGeom>
          <a:ln w="0">
            <a:noFill/>
          </a:ln>
        </p:spPr>
      </p:pic>
      <p:pic>
        <p:nvPicPr>
          <p:cNvPr id="3" name="LOGO_UNI" descr=""/>
          <p:cNvPicPr/>
          <p:nvPr/>
        </p:nvPicPr>
        <p:blipFill>
          <a:blip r:embed="rId3"/>
          <a:stretch/>
        </p:blipFill>
        <p:spPr>
          <a:xfrm>
            <a:off x="8305920" y="152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9040" y="2742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fafd00"/>
              </a:solidFill>
              <a:latin typeface="Verdana"/>
            </a:endParaRPr>
          </a:p>
        </p:txBody>
      </p:sp>
      <p:pic>
        <p:nvPicPr>
          <p:cNvPr id="41" name="LOGO_UNI" descr=""/>
          <p:cNvPicPr/>
          <p:nvPr/>
        </p:nvPicPr>
        <p:blipFill>
          <a:blip r:embed="rId2"/>
          <a:stretch/>
        </p:blipFill>
        <p:spPr>
          <a:xfrm>
            <a:off x="82296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38088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762120" algn="ctr">
              <a:spcBef>
                <a:spcPts val="10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143000" algn="ctr">
              <a:spcBef>
                <a:spcPts val="9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523880" algn="ctr">
              <a:spcBef>
                <a:spcPts val="901"/>
              </a:spcBef>
              <a:buClr>
                <a:srgbClr val="d073ce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52388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52388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.wmf"/><Relationship Id="rId3" Type="http://schemas.openxmlformats.org/officeDocument/2006/relationships/image" Target="../media/image8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:/Caldelli/CorsoEI/Corso/PRESE_LCI/watermark.ex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6320" y="2955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LCI_logo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2133720" cy="196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3123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fafd00"/>
                </a:solidFill>
                <a:latin typeface="Verdana"/>
              </a:rPr>
              <a:t>La protezione dei contenuti </a:t>
            </a:r>
            <a:br>
              <a:rPr sz="4400"/>
            </a:br>
            <a:endParaRPr b="0" i="1" lang="en-US" sz="44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o Cappellini e Roberto Caldel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ità di Firenz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01840" y="1600200"/>
            <a:ext cx="1366920" cy="949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57160" y="291456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06400" y="281952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391520" y="26668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77120" y="3733920"/>
            <a:ext cx="190476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563868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/>
          <p:nvPr/>
        </p:nvCxnSpPr>
        <p:spPr>
          <a:xfrm flipV="1">
            <a:off x="2133360" y="2666520"/>
            <a:ext cx="106740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0">
            <a:noFill/>
          </a:ln>
        </p:spPr>
      </p:cxnSp>
      <p:sp>
        <p:nvSpPr>
          <p:cNvPr id="168" name=""/>
          <p:cNvSpPr/>
          <p:nvPr/>
        </p:nvSpPr>
        <p:spPr>
          <a:xfrm flipV="1">
            <a:off x="2286000" y="2514600"/>
            <a:ext cx="106668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438280"/>
            <a:ext cx="137160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34720" y="2561760"/>
            <a:ext cx="1398600" cy="203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6880" y="2247840"/>
            <a:ext cx="2618640" cy="635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38480" y="518148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55920" y="57276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tt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img017" descr=""/>
          <p:cNvPicPr/>
          <p:nvPr/>
        </p:nvPicPr>
        <p:blipFill>
          <a:blip r:embed="rId5"/>
          <a:stretch/>
        </p:blipFill>
        <p:spPr>
          <a:xfrm>
            <a:off x="2913120" y="4648320"/>
            <a:ext cx="925560" cy="958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1068480" y="4648320"/>
            <a:ext cx="985680" cy="985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21590400">
            <a:off x="2285640" y="4952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715000"/>
            <a:ext cx="1905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701120" y="4267080"/>
            <a:ext cx="944280" cy="1179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5791320" y="3124080"/>
            <a:ext cx="944280" cy="1179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Content distribu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3110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 rot="9600">
            <a:off x="2223720" y="350532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343400"/>
            <a:ext cx="1904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ira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86320" y="3200400"/>
            <a:ext cx="1076400" cy="1247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680080" y="377676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79800" y="3772080"/>
            <a:ext cx="339840" cy="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img017" descr=""/>
          <p:cNvPicPr/>
          <p:nvPr/>
        </p:nvPicPr>
        <p:blipFill>
          <a:blip r:embed="rId3"/>
          <a:stretch/>
        </p:blipFill>
        <p:spPr>
          <a:xfrm>
            <a:off x="2962440" y="3309840"/>
            <a:ext cx="976320" cy="1065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038480" y="4608360"/>
            <a:ext cx="2013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162240"/>
            <a:ext cx="27432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der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atermark W is prese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S /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1040" y="244152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96280" y="190800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792680" y="5715000"/>
            <a:ext cx="358920" cy="698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63560" y="579132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983120" y="502884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Watermark detec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Data Authentica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marked image with a watermark distributed in all the im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om: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thods for Detecting Tampering in Digital Image, b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CHAEL J. SIEFFE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IF9905_6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Data Authentica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mpered imag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om: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thods for Detecting Tampering in Digital Image, b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CHAEL J. SIEFFE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IF9905_7" descr=""/>
          <p:cNvPicPr/>
          <p:nvPr/>
        </p:nvPicPr>
        <p:blipFill>
          <a:blip r:embed="rId1"/>
          <a:stretch/>
        </p:blipFill>
        <p:spPr>
          <a:xfrm>
            <a:off x="1982880" y="1446120"/>
            <a:ext cx="45241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Data Authentica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mark checking reveals the tampering of the image, highlighting the modified reg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rom: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thods for Detecting Tampering in Digital Image, by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ICHAEL J. SIEFFER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IF9905_8" descr=""/>
          <p:cNvPicPr/>
          <p:nvPr/>
        </p:nvPicPr>
        <p:blipFill>
          <a:blip r:embed="rId1"/>
          <a:stretch/>
        </p:blipFill>
        <p:spPr>
          <a:xfrm>
            <a:off x="1974960" y="1438200"/>
            <a:ext cx="45273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91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Image watermarking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pic>
        <p:nvPicPr>
          <p:cNvPr id="206" name="LCI_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86000"/>
            <a:ext cx="16761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91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Video watermarking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 vide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marked vide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ttacked vide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752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307"/>
                </a:moveTo>
                <a:lnTo>
                  <a:pt x="4707" y="7307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0"/>
                </a:lnTo>
                <a:lnTo>
                  <a:pt x="14856" y="8778"/>
                </a:lnTo>
                <a:lnTo>
                  <a:pt x="16701" y="8778"/>
                </a:lnTo>
                <a:lnTo>
                  <a:pt x="17067" y="8230"/>
                </a:lnTo>
                <a:lnTo>
                  <a:pt x="17806" y="8230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4"/>
                </a:lnTo>
                <a:lnTo>
                  <a:pt x="14856" y="12834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49"/>
                </a:lnTo>
                <a:lnTo>
                  <a:pt x="3794" y="10249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2971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39152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Digital watermarking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al of digital watermarking i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12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512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hide into multimedia data a code carrying useful information such as the identifier of the work, of the  owner, etc. . This code must be imperceptible to the user and difficult to be removed by unauthorised user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Digital Watermarking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Watermarking techniques are based on concepts belonging t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rypt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52560" indent="-190440">
              <a:spcBef>
                <a:spcPts val="10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s the art-science, of keeping messages secre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tegan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52560" indent="-190440">
              <a:spcBef>
                <a:spcPts val="1001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s the art-science of communicating hiding the existence of the commun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mmunication the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ignal process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Steganography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ganography is a term derived from the Greek words </a:t>
            </a:r>
            <a:r>
              <a:rPr b="0" i="1" lang="en-US" sz="2800" spc="-1" strike="noStrike">
                <a:solidFill>
                  <a:srgbClr val="ffff85"/>
                </a:solidFill>
                <a:latin typeface="Verdana"/>
              </a:rPr>
              <a:t>stegano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which means “covered”) and </a:t>
            </a:r>
            <a:r>
              <a:rPr b="0" i="1" lang="en-US" sz="2800" spc="-1" strike="noStrike">
                <a:solidFill>
                  <a:srgbClr val="ffff85"/>
                </a:solidFill>
                <a:latin typeface="Verdana"/>
              </a:rPr>
              <a:t>graphi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(meaning “writing”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eganography is the art-science of communicating hiding the existence of the communi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Cryptography-Steganography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ontrast to cryptography, where the enemy is allowed to intercept and modify messages without being able to violate the message content, the goal of steganography is to </a:t>
            </a:r>
            <a:r>
              <a:rPr b="0" lang="en-US" sz="2800" spc="-1" strike="noStrike">
                <a:solidFill>
                  <a:srgbClr val="ffff85"/>
                </a:solidFill>
                <a:latin typeface="Verdana"/>
              </a:rPr>
              <a:t>hide messages inside other harmless messages in a way that does not allow any enemy to even detect the presence of a second secret messa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Erodo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 Hystories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(~ 2500 years ago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571680" indent="-190800">
              <a:spcBef>
                <a:spcPts val="1199"/>
              </a:spcBef>
              <a:buClr>
                <a:srgbClr val="fafd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isible in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Communication System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-76320" y="1828800"/>
            <a:ext cx="9220320" cy="2420640"/>
            <a:chOff x="-76320" y="1828800"/>
            <a:chExt cx="9220320" cy="2420640"/>
          </a:xfrm>
        </p:grpSpPr>
        <p:sp>
          <p:nvSpPr>
            <p:cNvPr id="96" name=""/>
            <p:cNvSpPr/>
            <p:nvPr/>
          </p:nvSpPr>
          <p:spPr>
            <a:xfrm>
              <a:off x="7620120" y="2685960"/>
              <a:ext cx="1523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utput mess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-76320" y="1828800"/>
              <a:ext cx="8153640" cy="2420640"/>
              <a:chOff x="-76320" y="1828800"/>
              <a:chExt cx="8153640" cy="2420640"/>
            </a:xfrm>
          </p:grpSpPr>
          <p:sp>
            <p:nvSpPr>
              <p:cNvPr id="98" name=""/>
              <p:cNvSpPr/>
              <p:nvPr/>
            </p:nvSpPr>
            <p:spPr>
              <a:xfrm>
                <a:off x="1523880" y="1828800"/>
                <a:ext cx="16891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Noi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124080" y="2057400"/>
                <a:ext cx="1371600" cy="914400"/>
              </a:xfrm>
              <a:custGeom>
                <a:avLst/>
                <a:gdLst/>
                <a:ahLst/>
                <a:rect l="l" t="t" r="r" b="b"/>
                <a:pathLst>
                  <a:path w="865" h="433">
                    <a:moveTo>
                      <a:pt x="0" y="0"/>
                    </a:moveTo>
                    <a:lnTo>
                      <a:pt x="864" y="0"/>
                    </a:lnTo>
                    <a:lnTo>
                      <a:pt x="864" y="432"/>
                    </a:lnTo>
                  </a:path>
                </a:pathLst>
              </a:custGeom>
              <a:noFill/>
              <a:ln cap="rnd" w="38160">
                <a:solidFill>
                  <a:srgbClr val="fafd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-76320" y="2786040"/>
                <a:ext cx="152424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Input messag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704960" y="2666880"/>
                <a:ext cx="1724040" cy="1057320"/>
                <a:chOff x="1704960" y="2666880"/>
                <a:chExt cx="1724040" cy="10573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704960" y="2666880"/>
                  <a:ext cx="1724040" cy="105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752480" y="2809800"/>
                  <a:ext cx="1533600" cy="82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hannel encod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1218960" y="3195720"/>
                <a:ext cx="485640" cy="46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460840" y="2666880"/>
                <a:ext cx="1724040" cy="1057320"/>
                <a:chOff x="5460840" y="2666880"/>
                <a:chExt cx="1724040" cy="10573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460840" y="2666880"/>
                  <a:ext cx="1724040" cy="1057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508360" y="2809800"/>
                  <a:ext cx="1533600" cy="82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hannel decode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191120" y="2928960"/>
                <a:ext cx="533160" cy="53352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Book Antiqua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flipV="1">
                <a:off x="4723920" y="3193920"/>
                <a:ext cx="762120" cy="504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7213680" y="3195360"/>
                <a:ext cx="482400" cy="468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3428640" y="3193920"/>
                <a:ext cx="762120" cy="504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6680" y="3733920"/>
                <a:ext cx="762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29000" y="3352680"/>
                <a:ext cx="76212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48320" y="3352680"/>
                <a:ext cx="7617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05320" y="2057400"/>
                <a:ext cx="7617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15200" y="3352680"/>
                <a:ext cx="76212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ffff"/>
                    </a:solidFill>
                    <a:latin typeface="Arial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2438280" y="4633920"/>
            <a:ext cx="5410440" cy="1704600"/>
          </a:xfrm>
          <a:prstGeom prst="wedgeRectCallout">
            <a:avLst>
              <a:gd name="adj1" fmla="val -42259"/>
              <a:gd name="adj2" fmla="val -96050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ncoder maps the messag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o a code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rawn from a set of signals that can be transmitted over the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ource coder + modulato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Watermarking System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2685960"/>
            <a:ext cx="1524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ut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828800"/>
            <a:ext cx="168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2209680"/>
            <a:ext cx="1371600" cy="762120"/>
          </a:xfrm>
          <a:custGeom>
            <a:avLst/>
            <a:gdLst/>
            <a:ahLst/>
            <a:rect l="l" t="t" r="r" b="b"/>
            <a:pathLst>
              <a:path w="865" h="433">
                <a:moveTo>
                  <a:pt x="0" y="0"/>
                </a:moveTo>
                <a:lnTo>
                  <a:pt x="864" y="0"/>
                </a:lnTo>
                <a:lnTo>
                  <a:pt x="864" y="432"/>
                </a:lnTo>
              </a:path>
            </a:pathLst>
          </a:custGeom>
          <a:noFill/>
          <a:ln cap="rnd"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786040"/>
            <a:ext cx="1523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2666880"/>
            <a:ext cx="172404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2809800"/>
            <a:ext cx="1628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termark embed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295280" y="3195720"/>
            <a:ext cx="486000" cy="468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37160" y="2666880"/>
            <a:ext cx="1724040" cy="10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2809800"/>
            <a:ext cx="15782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termark det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928960"/>
            <a:ext cx="53352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800240" y="3193920"/>
            <a:ext cx="762120" cy="504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7289280" y="3195360"/>
            <a:ext cx="482760" cy="468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505320" y="3193920"/>
            <a:ext cx="761760" cy="504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657600"/>
            <a:ext cx="761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761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352680"/>
            <a:ext cx="762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133720"/>
            <a:ext cx="762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3352680"/>
            <a:ext cx="761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4419720"/>
            <a:ext cx="2286000" cy="914400"/>
          </a:xfrm>
          <a:prstGeom prst="wedgeRectCallout">
            <a:avLst>
              <a:gd name="adj1" fmla="val -3749"/>
              <a:gd name="adj2" fmla="val -107120"/>
            </a:avLst>
          </a:prstGeom>
          <a:noFill/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marked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343400"/>
            <a:ext cx="2895840" cy="914400"/>
          </a:xfrm>
          <a:prstGeom prst="wedgeRectCallout">
            <a:avLst>
              <a:gd name="adj1" fmla="val -51643"/>
              <a:gd name="adj2" fmla="val -96703"/>
            </a:avLst>
          </a:prstGeom>
          <a:noFill/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marked &amp; attacked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1320" y="1143000"/>
            <a:ext cx="1981080" cy="762120"/>
          </a:xfrm>
          <a:prstGeom prst="wedgeRectCallout">
            <a:avLst>
              <a:gd name="adj1" fmla="val -147597"/>
              <a:gd name="adj2" fmla="val 71458"/>
            </a:avLst>
          </a:prstGeom>
          <a:noFill/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ks / cover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3809880"/>
            <a:ext cx="762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48320"/>
            <a:ext cx="2286000" cy="914400"/>
          </a:xfrm>
          <a:prstGeom prst="wedgeRectCallout">
            <a:avLst>
              <a:gd name="adj1" fmla="val 27083"/>
              <a:gd name="adj2" fmla="val -88370"/>
            </a:avLst>
          </a:prstGeom>
          <a:noFill/>
          <a:ln w="12600">
            <a:solidFill>
              <a:srgbClr val="8cf4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inal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104920" y="3753360"/>
            <a:ext cx="236160" cy="424440"/>
          </a:xfrm>
          <a:prstGeom prst="line">
            <a:avLst/>
          </a:prstGeom>
          <a:ln w="3816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afd00"/>
                </a:solidFill>
                <a:latin typeface="Verdana"/>
              </a:rPr>
              <a:t>Copyright Protec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For the protection of intellectual property, the data owner can embed a watermark representing copyright information in his da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-190440"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his watermark can prove his ownership in court when someone has infringed on his copyrigh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19044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989520" y="3363840"/>
            <a:ext cx="1117440" cy="119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37040" y="3962520"/>
            <a:ext cx="7570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590920"/>
            <a:ext cx="0" cy="583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94480" y="3962520"/>
            <a:ext cx="758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5720" y="1901880"/>
            <a:ext cx="204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4800600"/>
            <a:ext cx="13716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ig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4800600"/>
            <a:ext cx="205740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atermar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498920"/>
            <a:ext cx="137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nco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81560" y="5715000"/>
            <a:ext cx="358560" cy="698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51720" y="5791320"/>
            <a:ext cx="65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572000" y="5028840"/>
            <a:ext cx="0" cy="584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Verdana"/>
              </a:rPr>
              <a:t>Watermark insertion</a:t>
            </a:r>
            <a:endParaRPr b="0" i="1" lang="en-US" sz="3600" spc="-1" strike="noStrike">
              <a:solidFill>
                <a:srgbClr val="fafd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676520" y="3371760"/>
            <a:ext cx="1218960" cy="1162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010280" y="3429000"/>
            <a:ext cx="1219320" cy="1162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959520" y="3333600"/>
            <a:ext cx="56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09:09:48Z</dcterms:created>
  <dc:creator>Alessandro Piva</dc:creator>
  <dc:description>Presentazione watermarking</dc:description>
  <dc:language>en-US</dc:language>
  <cp:lastModifiedBy>Caldelli</cp:lastModifiedBy>
  <cp:lastPrinted>2002-05-09T20:46:34Z</cp:lastPrinted>
  <dcterms:modified xsi:type="dcterms:W3CDTF">2005-06-08T16:31:28Z</dcterms:modified>
  <cp:revision>256</cp:revision>
  <dc:subject/>
  <dc:title>Seminari Korea</dc:title>
</cp:coreProperties>
</file>