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B77-0990-4C5B-A81D-FBA5C3F0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D47-07F5-4DC4-BAA4-E2A8790FF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42E-CA75-4803-9246-D3AC2947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63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79B-7D19-4AD8-9C83-9789E20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AF3-AFA3-4C77-A9D4-86CF949C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634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634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634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2DB-6079-41A4-A7B9-C77B9BBD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0B8-BA4F-44E4-B145-B5C3CEDF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2AA-0845-48D9-95B3-BB590AC6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CCE-17A1-4DB1-96B9-99A38455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D74-E9C4-43C2-92C6-E3CBBB44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28E-B69A-47F4-8080-CE6BBF7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64D-9605-49F8-BDAE-D7A24665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495-9589-40B3-A5E4-FB90A13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63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874-A033-41A7-BC9A-6E7F70F9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fld id="{932173C2-F6A3-4516-BFCC-670DDCDF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152280"/>
            <a:ext cx="1308240" cy="3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038480"/>
            <a:ext cx="5486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ndre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ode-DVB-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65C-66B7-4F2C-B756-85D9B920747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1981080"/>
            <a:ext cx="185436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760" y="762120"/>
            <a:ext cx="8562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 DVB-T systems th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timum gain setting is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–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n ICE enabled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ystems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the gain limi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–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Isolation + 20 dB  or    Hardware Power  or   Hardware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–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ownlink input level from donor antenna: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-50 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ated output power per channel: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+33 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solation: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+7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solation limited gain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70+20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9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Hardware Power limited gain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33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Hardware Gain limited gain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33+50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83dB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≤ 8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ctual Gain setting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8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RF G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981080"/>
            <a:ext cx="19810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1981080"/>
            <a:ext cx="19051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3360" y="4648320"/>
            <a:ext cx="963000" cy="485640"/>
            <a:chOff x="513360" y="4648320"/>
            <a:chExt cx="963000" cy="485640"/>
          </a:xfrm>
        </p:grpSpPr>
        <p:sp>
          <p:nvSpPr>
            <p:cNvPr id="103" name=""/>
            <p:cNvSpPr/>
            <p:nvPr/>
          </p:nvSpPr>
          <p:spPr>
            <a:xfrm>
              <a:off x="574560" y="4648320"/>
              <a:ext cx="901800" cy="485640"/>
            </a:xfrm>
            <a:prstGeom prst="rightArrow">
              <a:avLst>
                <a:gd name="adj1" fmla="val 50000"/>
                <a:gd name="adj2" fmla="val 46423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3360" y="472608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Li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371600" y="55627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0D4-961D-4D6E-9A5B-8FCB4DACFC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720" y="1428480"/>
            <a:ext cx="90709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wer: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-20W a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50-85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andwidth/Modul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 or 2 * 8MHz blocks (3 blocks in roadm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ansio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 modules possible (up to 6 blocks per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aster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ltering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able digital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tup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ssible measurement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olation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erference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pervisio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mote via a GSM/UMTS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er Interfac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cal and remote web based (ht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pervision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NMP or SMS for connectivit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ode DVB-T Basic Specif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3BC-5B6F-4743-9072-675A8E7F6E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57560" y="2254320"/>
            <a:ext cx="3381120" cy="3552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4800600" y="3777840"/>
            <a:ext cx="838080" cy="152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91120" y="2634840"/>
            <a:ext cx="1523880" cy="304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8600" y="3468600"/>
            <a:ext cx="300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imary Channel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lter (6-16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terference canc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7920" y="2328840"/>
            <a:ext cx="325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ary Channel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lter (6-16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terference canc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4600" y="316692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ne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ulti-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05120" y="35971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76960" y="4309920"/>
            <a:ext cx="128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60044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5760" y="5834160"/>
            <a:ext cx="32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put and Output RF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226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226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7680" y="1795320"/>
            <a:ext cx="27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P-65 Outdoor 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20854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st components are field replac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ode-DVB-T Un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E23-2C47-4756-86A0-9A1F92523D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1960" y="4183200"/>
            <a:ext cx="8362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ANDREW CORPORATION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e Company. A World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640080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9880" y="5518080"/>
            <a:ext cx="1689120" cy="47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5CC-F0B7-4F40-B3BB-ECB06A27409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VB-T Background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VB-T networks can be planned in the same way as analogue networks, using an individual set of radio frequencies for each transmiss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igration is inherent in the syste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layed signals arriving within the guard interval can be beneficial to a Coded Orthogonal Frequency Division Multiplex (COFDM) receiver, rather than interfering as with analogue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mulcast and multi-path are 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ngle Frequency Networks (SFN) techniques can be used to fill gaps in coverage on both a small and large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1-F1 Repeaters can be an important network compo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319-1F41-40CA-A0D0-B5A152DCDA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VB-T Background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657600"/>
            <a:ext cx="6191280" cy="14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34320" y="4838760"/>
            <a:ext cx="5331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18116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ded Orthogonal Frequency Division Multiplex (COFDM) has many options for flexi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umber of Carriers: 8k-mode (896 µs) and 2k-mode (224 µ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dulation Schemes: QPSK, 16-QAM and 64-Q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andwidth: 8MHz (preferred), 7MHz and 6MHz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uard Interval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629400" y="5105520"/>
            <a:ext cx="45720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51960" y="5513400"/>
            <a:ext cx="605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ote: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s guard interval is not enough to use most rep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ll other guard intervals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6E2-B378-4AF5-A02E-8FD6FC2B0D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VB-T C/N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924200"/>
            <a:ext cx="5686560" cy="3638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43520" y="5665680"/>
            <a:ext cx="699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ote: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/N dictates what feedback level is acceptable for F1-F1 rep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igh priority requires a gain margin &gt; C/N &gt;15d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484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/N requirements are higher for high priority signals than low priorit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1BF-EBED-4FD0-BDA1-3C99541DC9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General Repeater Rema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4113360"/>
            <a:ext cx="5410440" cy="167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An off-the-air RF repeater needs sufficient downlink input signal from the serving transmi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The selected repeater type should be capable of operating close to its rated power (limited by isolation usuall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Antenna selection is important for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VB-T</a:t>
            </a: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 applications.  Be aware the value of antenna gain as it is (nearly) intermodulation free. Antennas are much larger at lower frequency than higher frequency for the same 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C63-F5C0-42DF-BC9C-24FB0F66AC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67440" y="2625840"/>
            <a:ext cx="2695680" cy="1241280"/>
          </a:xfrm>
          <a:prstGeom prst="ellipse">
            <a:avLst/>
          </a:pr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overed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65400" y="1495440"/>
            <a:ext cx="4444920" cy="1581120"/>
          </a:xfrm>
          <a:prstGeom prst="ellipse">
            <a:avLst/>
          </a:prstGeom>
          <a:solidFill>
            <a:srgbClr val="a7d5b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9280" y="1459080"/>
          <a:ext cx="105084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459080"/>
                    <a:ext cx="105084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948280" y="1962000"/>
            <a:ext cx="0" cy="3733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32640" y="1968480"/>
            <a:ext cx="190440" cy="101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3840" y="2266920"/>
            <a:ext cx="4378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3640" y="196524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Path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8920" y="188424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9640" y="56815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VB-T 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89920" y="56386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Repe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130400">
            <a:off x="5305320" y="2585520"/>
            <a:ext cx="893880" cy="765360"/>
          </a:xfrm>
          <a:custGeom>
            <a:avLst/>
            <a:gdLst/>
            <a:ahLst/>
            <a:rect l="l" t="t" r="r" b="b"/>
            <a:pathLst>
              <a:path w="680" h="648">
                <a:moveTo>
                  <a:pt x="208" y="0"/>
                </a:moveTo>
                <a:cubicBezTo>
                  <a:pt x="104" y="164"/>
                  <a:pt x="0" y="328"/>
                  <a:pt x="64" y="432"/>
                </a:cubicBezTo>
                <a:cubicBezTo>
                  <a:pt x="128" y="536"/>
                  <a:pt x="504" y="600"/>
                  <a:pt x="592" y="624"/>
                </a:cubicBezTo>
                <a:cubicBezTo>
                  <a:pt x="680" y="648"/>
                  <a:pt x="636" y="612"/>
                  <a:pt x="592" y="5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3200" y="3179880"/>
            <a:ext cx="100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Repeater Setup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62680" y="2844720"/>
            <a:ext cx="191880" cy="101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53040" y="2419200"/>
            <a:ext cx="60984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66080" y="969840"/>
            <a:ext cx="9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Do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824440" y="1533600"/>
            <a:ext cx="60984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757400" y="3105000"/>
            <a:ext cx="609480" cy="406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48480" y="4933800"/>
            <a:ext cx="41580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8AE-D82B-4512-BBD3-AB002C5B4D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3422520"/>
            <a:ext cx="3733920" cy="290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3429000"/>
            <a:ext cx="3886200" cy="2900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so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7966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Antenna is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Can’t be calculated exactly, but may be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Varies with frequency and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Is impacted by the environment it i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The higher the front-to-back ratio antenna are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Shielding grids may be used between the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7C2-C53F-4C06-8DFB-92044909DB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3733920"/>
            <a:ext cx="304812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terference Cance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9880" y="1249200"/>
            <a:ext cx="8158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Node-DVB-T has integrated ICE (Digital </a:t>
            </a: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terference </a:t>
            </a: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cellation </a:t>
            </a: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quipment) algorithms are based on adaptive filtering techniqu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s filter adapts to the dynamic multipath structure of the leakage signals and cancels them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de-C’s ICE allows the unit to operate at negative gain margins while preventing oscillation and preserving wave form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de-DVB Gain Margi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tandard Gain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= Isolation + 20dB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= Isolation –1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Margin (Node-C) = -20dB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Margin = +15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mprovement = 35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539-0B9E-4086-89DD-ECBC62BAC52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79480" y="2714760"/>
            <a:ext cx="4856400" cy="330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61240" y="3552840"/>
            <a:ext cx="1371600" cy="2327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6 MHz instantaneous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5 dB cancellation (65 dB isolation for 85dB of 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utomatic setup and continuous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terference Cance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91F-2B9F-4669-B035-98AB4D63CC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09:46Z</dcterms:created>
  <dc:creator>MIWILLIAMSO</dc:creator>
  <dc:description/>
  <dc:language>en-US</dc:language>
  <cp:lastModifiedBy>ANCASINI</cp:lastModifiedBy>
  <dcterms:modified xsi:type="dcterms:W3CDTF">2005-06-09T17:55:31Z</dcterms:modified>
  <cp:revision>53</cp:revision>
  <dc:subject/>
  <dc:title>Andrew Node-C Training</dc:title>
</cp:coreProperties>
</file>