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8F7-60A0-4004-909C-37FA2910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4B1-F384-4D0B-89BD-1ECD68FE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505-75DC-4E17-BB19-2CBCA778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2BA-6A16-460D-A07B-19BA2B10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D8C73-B0EF-41B3-83DF-5B28E2189C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42923-384F-407F-B9A0-AC18B3AD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DBD53-B855-4E0A-AFF1-E39EAC0A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AC612-1C37-46C4-AC7C-5D836466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E8970-E181-4E5B-8665-D0334835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55DFB-CC9B-440A-A65C-3E159CBF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7260F-5E03-4E90-B25A-8FA79222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F59-9D20-4BF9-A083-9911B765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30807-7232-4259-A029-0716608E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C4B24-97E9-4C50-87AA-4745247E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BB233-ED22-4101-B3BE-4F82F673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AFAEF-1EA7-45C5-9170-28C27770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5C698-0EC5-43BC-B236-C5A0B349CB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44A-7463-483C-AB5F-F37ED9C4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C55-3522-4757-8597-F6BEABF0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F51-B3EE-43DB-A764-67707334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7BE-74A3-4088-B996-20D8846B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876-3952-4E87-9FA2-DAD3DD74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E93-2CB2-49E6-9858-35DEBB25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4DC-933C-4D8E-8615-E0F658A3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499"/>
              </a:spcBef>
              <a:buClr>
                <a:srgbClr val="a5002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40044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495F-F883-4A12-A5CB-CA85320ABE78}" type="datetime3">
              <a:rPr b="0" lang="en-US" sz="1000" spc="-1" strike="noStrike">
                <a:solidFill>
                  <a:srgbClr val="000000"/>
                </a:solidFill>
                <a:latin typeface="Lucida San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77777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777777"/>
                </a:solidFill>
                <a:latin typeface="Arial"/>
              </a:rPr>
              <a:t>Company</a:t>
            </a:r>
            <a:r>
              <a:rPr b="0" lang="en-US" sz="1000" spc="-1" strike="noStrike">
                <a:solidFill>
                  <a:srgbClr val="777777"/>
                </a:solidFill>
                <a:latin typeface="Arial"/>
              </a:rPr>
              <a:t> proprietary and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4840" y="640044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Page:</a:t>
            </a:r>
            <a:fld id="{2FC1D06C-CE6E-4E48-8E06-9728114A87C8}" type="slidenum">
              <a:rPr b="0" lang="en-US" sz="10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9360" cy="355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274760" y="25560"/>
            <a:ext cx="1087560" cy="3553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Lucida Sans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5960" y="640044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FC5D-DADF-416B-8F20-43D7C1BB0D0E}" type="datetime3">
              <a:rPr b="0" lang="en-US" sz="1000" spc="-1" strike="noStrike">
                <a:solidFill>
                  <a:srgbClr val="000000"/>
                </a:solidFill>
                <a:latin typeface="Lucida San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7314840" y="640044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Page:</a:t>
            </a:r>
            <a:fld id="{654AACC6-0D06-4866-A628-4D8CCD86F2F8}" type="slidenum">
              <a:rPr b="0" lang="en-US" sz="10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55520"/>
            <a:ext cx="198432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404120" y="155520"/>
            <a:ext cx="1663560" cy="53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861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1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222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Lucida Sans"/>
              </a:rPr>
              <a:t>Click to edit the outline text format</a:t>
            </a:r>
            <a:endParaRPr b="1" lang="en-US" sz="3600" spc="-1" strike="noStrike">
              <a:solidFill>
                <a:srgbClr val="a50021"/>
              </a:solidFill>
              <a:latin typeface="Lucida Sans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400"/>
              </a:spcBef>
              <a:buClr>
                <a:srgbClr val="a50021"/>
              </a:buClr>
              <a:buSzPct val="50000"/>
              <a:buFont typeface="Wingdings 2" charset="2"/>
              <a:buChar char="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349"/>
              </a:spcBef>
              <a:buClr>
                <a:srgbClr val="a50021"/>
              </a:buClr>
              <a:buSzPct val="5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349"/>
              </a:spcBef>
              <a:buClr>
                <a:srgbClr val="a50021"/>
              </a:buClr>
              <a:buSzPct val="60000"/>
              <a:buFont typeface="Wingdings 2" charset="2"/>
              <a:buChar char="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44956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640080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9064-882C-4FE1-A711-62971884A4A0}" type="datetime3">
              <a:rPr b="0" lang="en-US" sz="1000" spc="-1" strike="noStrike">
                <a:solidFill>
                  <a:srgbClr val="ffffff"/>
                </a:solidFill>
                <a:latin typeface="Lucida San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16920" y="6670800"/>
            <a:ext cx="938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f5f5f"/>
                </a:solidFill>
                <a:latin typeface="Lucida Sans"/>
              </a:rPr>
              <a:t>Ver. 1.0 – 30/03/200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0DC71-0E5B-4D8A-9510-4210280CF54D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18D2452-C72B-4FB5-A2BA-5E2A98AA9B77}" type="datetime3">
              <a:rPr lang="en-US"/>
              <a:t>July 29, 2026</a:t>
            </a:fld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Copertura della Sperimentazione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diffusione del Multiplex Home Shopping Europe Broadcasting relativo alla provincia di Lucca, Pisa e Livorno, avviene attraverso i siti: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onte Pianello, Comune di Capannori (LU)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- Pietra Pertusa, Comune di Capannori (LU)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- Monte Serra Basso, Comune di Calci (PI)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Famiglie Raggiunte: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172.540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Kilometri Quadri Coperti: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1.072,2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 Mbit di banda dedicata all’applicazioni MHP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5.400 decoder interattivi presenti nella zona coperta (Ottobre 2004)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d oggi HSEB ha distribuiti gratuitamente 1100 decoder MHP ad un campione di utenza di cui 40 hanno espresso volontà di partecipare alla sperimentazione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791320" y="0"/>
            <a:ext cx="3123720" cy="806040"/>
            <a:chOff x="5791320" y="0"/>
            <a:chExt cx="3123720" cy="80604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6359040" y="82080"/>
              <a:ext cx="60768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7239600" y="84960"/>
              <a:ext cx="85176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69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318880" y="67680"/>
              <a:ext cx="47160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5"/>
            <a:stretch/>
          </p:blipFill>
          <p:spPr>
            <a:xfrm>
              <a:off x="5791320" y="397440"/>
              <a:ext cx="5961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6"/>
            <a:stretch/>
          </p:blipFill>
          <p:spPr>
            <a:xfrm>
              <a:off x="6561000" y="397440"/>
              <a:ext cx="3376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8318880" y="397440"/>
              <a:ext cx="59616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8"/>
            <a:stretch/>
          </p:blipFill>
          <p:spPr>
            <a:xfrm>
              <a:off x="7091640" y="479880"/>
              <a:ext cx="1113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2D9-4EEB-463F-B058-483DC0D81B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3893E-6AF4-4366-9E1F-FD9485447C4B}" type="datetime3">
              <a:rPr lang="en-US"/>
              <a:t>July 29, 2026</a:t>
            </a:fld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Considerazioni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uove diverse forze competitive stanno dando forma e sostanza all’industria emergente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el mondo ICT nulla accade di colpo, ma tutto cambia per processi, spesso lunghi: tutto si stratifica, ma ogni cosa è impermanente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e sfide sono organizzative prima che tecnologiche, strategiche e di mercato (demand side) prima che competitive (supply side). Occorre: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Fare sistem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perimenta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ccettare l’incertezz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791320" y="0"/>
            <a:ext cx="3123720" cy="806040"/>
            <a:chOff x="5791320" y="0"/>
            <a:chExt cx="3123720" cy="80604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6359040" y="82080"/>
              <a:ext cx="60768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7239600" y="84960"/>
              <a:ext cx="85176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69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8318880" y="67680"/>
              <a:ext cx="47160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5"/>
            <a:stretch/>
          </p:blipFill>
          <p:spPr>
            <a:xfrm>
              <a:off x="5791320" y="397440"/>
              <a:ext cx="5961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6"/>
            <a:stretch/>
          </p:blipFill>
          <p:spPr>
            <a:xfrm>
              <a:off x="6561000" y="397440"/>
              <a:ext cx="3376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7"/>
            <a:stretch/>
          </p:blipFill>
          <p:spPr>
            <a:xfrm>
              <a:off x="8318880" y="397440"/>
              <a:ext cx="59616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8"/>
            <a:stretch/>
          </p:blipFill>
          <p:spPr>
            <a:xfrm>
              <a:off x="7091640" y="479880"/>
              <a:ext cx="1113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73A-080A-4A61-AA16-C6F3AE9FFBF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6659C-B5CB-46DC-9D57-CB8177B14133}" type="datetime3">
              <a:rPr lang="en-US"/>
              <a:t>July 29, 2026</a:t>
            </a:fld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72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  <a:ea typeface="Times New Roman"/>
              </a:rPr>
              <a:t>CANALE DTT LAVORO</a:t>
            </a:r>
            <a:r>
              <a:rPr b="0" i="1" lang="en-US" sz="1800" spc="-1" strike="noStrike">
                <a:solidFill>
                  <a:srgbClr val="808080"/>
                </a:solidFill>
                <a:latin typeface="Lucida Sans"/>
              </a:rPr>
              <a:t> </a:t>
            </a:r>
            <a:endParaRPr b="1" lang="en-US" sz="1800" spc="-1" strike="noStrike">
              <a:solidFill>
                <a:srgbClr val="808080"/>
              </a:solidFill>
              <a:latin typeface="Lucida Sans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3520" y="4038480"/>
            <a:ext cx="8381880" cy="2163960"/>
            <a:chOff x="533520" y="4038480"/>
            <a:chExt cx="8381880" cy="21639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057400" y="4259160"/>
              <a:ext cx="16304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419720" y="4267080"/>
              <a:ext cx="2286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533520" y="4038480"/>
              <a:ext cx="99036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7315200" y="4221000"/>
              <a:ext cx="1265400" cy="8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533520" y="5105520"/>
              <a:ext cx="1600200" cy="8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>
              <a:off x="2598840" y="5105520"/>
              <a:ext cx="906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7"/>
            <a:stretch/>
          </p:blipFill>
          <p:spPr>
            <a:xfrm>
              <a:off x="7315200" y="5105520"/>
              <a:ext cx="160020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8"/>
            <a:stretch/>
          </p:blipFill>
          <p:spPr>
            <a:xfrm>
              <a:off x="4022640" y="5326200"/>
              <a:ext cx="2987640" cy="6174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1" name=""/>
          <p:cNvGraphicFramePr/>
          <p:nvPr/>
        </p:nvGraphicFramePr>
        <p:xfrm>
          <a:off x="2514600" y="1447920"/>
          <a:ext cx="4062240" cy="12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1447920"/>
                    <a:ext cx="406224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A555E-0751-4050-AEEE-512AB07DED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85E9293-83A6-4CCB-8D3B-CAA1941EAF04}" type="datetime3">
              <a:rPr lang="en-US"/>
              <a:t>July 29, 2026</a:t>
            </a:fld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Perché un Canale sul Lavoro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L’iDTV è un nuovo canale interattivo, che a ragione molti ritengono altamente pervasivo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ei servizi interattivi è sempre opportuno rispettare la regola delle tre U: Utilità, Usabilità e Ubiquità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L’obiettivo qui è di sperimentare contemporaneamente più piani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’utilità dei servizi al cittadino, attorno a un tema importante: il lavor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’utilizzabilità di contenuti digitali già esistenti, sul canale iDTV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ucida Sans"/>
              </a:rPr>
              <a:t>Le potenzialità del canale DTT non solo per contenuti e servizi informativi, free o pay, ma anche per completare transazioni economiche a valere su contenuti, prodotti e servizi di terzi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Per realizzare il progetto, abbiamo costruito un’ATI tra realtà ricche di contenuti, di tecnologie, di competenze specialistiche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791320" y="0"/>
            <a:ext cx="3123720" cy="806040"/>
            <a:chOff x="5791320" y="0"/>
            <a:chExt cx="3123720" cy="80604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6359040" y="82080"/>
              <a:ext cx="60768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7239600" y="84960"/>
              <a:ext cx="85176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69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8318880" y="67680"/>
              <a:ext cx="47160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5791320" y="397440"/>
              <a:ext cx="5961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6561000" y="397440"/>
              <a:ext cx="3376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7"/>
            <a:stretch/>
          </p:blipFill>
          <p:spPr>
            <a:xfrm>
              <a:off x="8318880" y="397440"/>
              <a:ext cx="59616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8"/>
            <a:stretch/>
          </p:blipFill>
          <p:spPr>
            <a:xfrm>
              <a:off x="7091640" y="479880"/>
              <a:ext cx="1113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722-2104-4307-BD2C-CF01AAEABB9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40295-C9B3-480B-B3DA-A17485BEED26}" type="datetime3">
              <a:rPr lang="en-US"/>
              <a:t>July 29, 2026</a:t>
            </a:fld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I Partner del Canale DTT Lavoro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Giunti Labs 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Contenuti formativi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iattaforma per il t-Learning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Home Shopping Europe Broadcasting</a:t>
            </a:r>
            <a:r>
              <a:rPr b="0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MUX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Centro Servizi/Monitoraggi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Call Center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Il Sole 24 Ore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Banca Dati On Line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Altri contenuti digitali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(Norme e Approfondimenti)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Mobilmat/Mobis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Gestione del Gateway di Pagament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iattaforma transazionale e Autenticazione delle transazioni (MTS)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1143000"/>
            <a:ext cx="4191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Politecnico di Mila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Formazione on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e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Netw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Talent Manager</a:t>
            </a: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ntermediazione Lav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Base Dati Utenti e Azie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Ubiqu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Program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System Integ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MHP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33cc"/>
                </a:solidFill>
                <a:uFillTx/>
                <a:latin typeface="Lucida Sans"/>
              </a:rPr>
              <a:t>WI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ISP per canale di Ri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Dial-up V.90/ADSL/GP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70000"/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Sans"/>
              </a:rPr>
              <a:t>Housing e Ho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761760" cy="324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581280" y="3809880"/>
            <a:ext cx="1067040" cy="335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821040" y="1523880"/>
            <a:ext cx="522360" cy="493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834320" y="1371600"/>
            <a:ext cx="623880" cy="398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429000" y="4929120"/>
            <a:ext cx="59688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4309920" y="4916520"/>
            <a:ext cx="338400" cy="341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7696080" y="4788000"/>
            <a:ext cx="838440" cy="57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7543800" y="2590920"/>
            <a:ext cx="1114560" cy="230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7507440" y="3759120"/>
            <a:ext cx="1179360" cy="35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E0E-1FAE-493F-87A5-A815E03749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826E1-30FA-4084-8F9A-BEAA6C61F080}" type="datetime3">
              <a:rPr lang="en-US"/>
              <a:t>July 29, 2026</a:t>
            </a:fld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49320" y="1295280"/>
            <a:ext cx="1674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83600" y="1295280"/>
            <a:ext cx="1899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Il Perimetro del Progetto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781680" y="3581280"/>
            <a:ext cx="1344600" cy="573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15200" y="2971800"/>
            <a:ext cx="503280" cy="474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696080" y="2362320"/>
            <a:ext cx="459000" cy="463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400800" y="4114800"/>
            <a:ext cx="1136520" cy="779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47960" y="5918040"/>
            <a:ext cx="16668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0280" y="5105520"/>
            <a:ext cx="1171440" cy="785520"/>
          </a:xfrm>
          <a:prstGeom prst="rect">
            <a:avLst/>
          </a:prstGeom>
          <a:solidFill>
            <a:srgbClr val="ff5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em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4680" y="4191120"/>
            <a:ext cx="1143000" cy="78552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943600" y="4826160"/>
            <a:ext cx="1600200" cy="482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18144000">
            <a:off x="4199760" y="35582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Broadcast, Tecnologie, Integ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057400" y="1904760"/>
            <a:ext cx="4952880" cy="38923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94000" y="1905120"/>
            <a:ext cx="2479680" cy="194760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2624040" y="2117880"/>
            <a:ext cx="1201680" cy="377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5383080" y="2046240"/>
            <a:ext cx="777960" cy="498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4110120" y="2895480"/>
            <a:ext cx="919080" cy="507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3825720" y="4027320"/>
            <a:ext cx="1486080" cy="308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08640" y="2532240"/>
            <a:ext cx="1072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ontenu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igi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8040" y="2532240"/>
            <a:ext cx="1226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n-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8560" y="4368960"/>
            <a:ext cx="130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Market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71640" y="339084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Lucida Sans"/>
              </a:rPr>
              <a:t>Micro Pagam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E53-BCFB-4B1B-8056-2B8787A6921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84351-F427-4CBE-AB0D-A872E1051466}" type="datetime3">
              <a:rPr lang="en-US"/>
              <a:t>July 29, 2026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I Servizi del Canale DTT Lavoro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I servizi che verranno sviluppati ed offerti ai cittadin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: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Informazion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 a pagamento e gratuite, quali leggi, regolamenti, contratti, concorsi;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orsi di formazione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 corsi di aggiornamento, questionari di auto-valutazione, per lo più a pagamento;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Servizi di community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 tra cui un marketplace per l’incontro tra la domanda e l’offerta di lavoro, forum con esperti di settore, pre-test delle aziende.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Vendita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di strumenti che possano supportare l’attività di ricerca e miglioramento del proprio lavoro (libri, cd, software applicativi, PC, ecc.);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791320" y="0"/>
            <a:ext cx="3123720" cy="806040"/>
            <a:chOff x="5791320" y="0"/>
            <a:chExt cx="3123720" cy="80604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6359040" y="82080"/>
              <a:ext cx="60768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7239600" y="84960"/>
              <a:ext cx="85176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69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8318880" y="67680"/>
              <a:ext cx="47160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5791320" y="397440"/>
              <a:ext cx="5961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6561000" y="397440"/>
              <a:ext cx="3376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8318880" y="397440"/>
              <a:ext cx="59616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7091640" y="479880"/>
              <a:ext cx="1113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D36-31CF-44CF-ABF3-951905B0478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4AA34-A242-457C-98DF-7776D9351823}" type="datetime3">
              <a:rPr lang="en-US"/>
              <a:t>July 29, 2026</a:t>
            </a:fld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A chi si rivolge il Canale DTT Lavoro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avoratori (offerta di lavoro):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lavoratori già impiegati, che desiderino valutare meglio la propria posizione ed evolvere verso altre posizion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persone in cerca di lavoro, come giovani al primo impiego e non occupat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ziende ed Enti (domanda di lavoro)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Aziende con posizioni aperte che cercano candidat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Inserzionisti del Marketplac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stituzioni pubbliche e private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Amministrazioni locali e central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"/>
              </a:rPr>
              <a:t>Aziende di servizi legate al lavoro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791320" y="0"/>
            <a:ext cx="3123720" cy="806040"/>
            <a:chOff x="5791320" y="0"/>
            <a:chExt cx="3123720" cy="8060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6359040" y="82080"/>
              <a:ext cx="60768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7239600" y="84960"/>
              <a:ext cx="85176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69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8318880" y="67680"/>
              <a:ext cx="47160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5791320" y="397440"/>
              <a:ext cx="5961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6"/>
            <a:stretch/>
          </p:blipFill>
          <p:spPr>
            <a:xfrm>
              <a:off x="6561000" y="397440"/>
              <a:ext cx="3376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7"/>
            <a:stretch/>
          </p:blipFill>
          <p:spPr>
            <a:xfrm>
              <a:off x="8318880" y="397440"/>
              <a:ext cx="59616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8"/>
            <a:stretch/>
          </p:blipFill>
          <p:spPr>
            <a:xfrm>
              <a:off x="7091640" y="479880"/>
              <a:ext cx="1113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580-B2B4-4B38-9474-B4E87F5114C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70DCD-45BB-42FC-B12F-4977A6CEBCE0}" type="datetime3">
              <a:rPr lang="en-US"/>
              <a:t>July 29, 2026</a:t>
            </a:fld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Elementi Tecnologici Trattati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Interazione col Centro Servizi tramite Canale di Ritorn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Broadband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GPR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V90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Identificazione dell’utente tramite Smartcard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Carta Nazionale dei Servizi (CNS)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Carta D’identità Elettronica (CIE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Carta per e-commerc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Sicurezza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Canale di ritorno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Accesso alle risorse del decode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Autenticazione applicazion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791320" y="0"/>
            <a:ext cx="3123720" cy="806040"/>
            <a:chOff x="5791320" y="0"/>
            <a:chExt cx="3123720" cy="8060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6359040" y="82080"/>
              <a:ext cx="60768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7239600" y="84960"/>
              <a:ext cx="85176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69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4"/>
            <a:stretch/>
          </p:blipFill>
          <p:spPr>
            <a:xfrm>
              <a:off x="8318880" y="67680"/>
              <a:ext cx="47160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5791320" y="397440"/>
              <a:ext cx="5961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6"/>
            <a:stretch/>
          </p:blipFill>
          <p:spPr>
            <a:xfrm>
              <a:off x="6561000" y="397440"/>
              <a:ext cx="3376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7"/>
            <a:stretch/>
          </p:blipFill>
          <p:spPr>
            <a:xfrm>
              <a:off x="8318880" y="397440"/>
              <a:ext cx="59616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8"/>
            <a:stretch/>
          </p:blipFill>
          <p:spPr>
            <a:xfrm>
              <a:off x="7091640" y="479880"/>
              <a:ext cx="1113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445-0E7C-4A6C-92F9-AA38F1442B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F4FE7-165A-4B58-B1AD-3FB3389B98EE}" type="datetime3">
              <a:rPr lang="en-US"/>
              <a:t>July 29, 2026</a:t>
            </a:fld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Lucida Sans"/>
              </a:rPr>
              <a:t>Sperimentazione e Monitoraggio</a:t>
            </a:r>
            <a:endParaRPr b="1" lang="en-US" sz="3000" spc="-1" strike="noStrike">
              <a:solidFill>
                <a:srgbClr val="5f5f5f"/>
              </a:solidFill>
              <a:latin typeface="Lucid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Durante la sperimentazione sarà interessante verificare l’utilizzo da parte degli Utenti, mediante opportune tecniche di monitoragg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Politecnico di Milano e HSEB hanno predisposto una metodologia e dedicheranno consistenti risorse professionali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Parco decoder coinvolto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Parco di diverse migliaia di Utenti già in possesso di Decode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1100 Decoder distribuiti da HSEB su richiesta al Call Center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Circa 100 decoder ad elevata interattività da distribuir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onitoraggio su un campione di 500 utenti tramite: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Questionari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5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Lucida Sans"/>
              </a:rPr>
              <a:t>Interviste telefonich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791320" y="0"/>
            <a:ext cx="3123720" cy="806040"/>
            <a:chOff x="5791320" y="0"/>
            <a:chExt cx="3123720" cy="80604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6359040" y="82080"/>
              <a:ext cx="607680" cy="2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7239600" y="84960"/>
              <a:ext cx="85176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5791320" y="0"/>
              <a:ext cx="369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4"/>
            <a:stretch/>
          </p:blipFill>
          <p:spPr>
            <a:xfrm>
              <a:off x="8318880" y="67680"/>
              <a:ext cx="47160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5"/>
            <a:stretch/>
          </p:blipFill>
          <p:spPr>
            <a:xfrm>
              <a:off x="5791320" y="397440"/>
              <a:ext cx="5961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6"/>
            <a:stretch/>
          </p:blipFill>
          <p:spPr>
            <a:xfrm>
              <a:off x="6561000" y="397440"/>
              <a:ext cx="33768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7"/>
            <a:stretch/>
          </p:blipFill>
          <p:spPr>
            <a:xfrm>
              <a:off x="8318880" y="397440"/>
              <a:ext cx="59616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8"/>
            <a:stretch/>
          </p:blipFill>
          <p:spPr>
            <a:xfrm>
              <a:off x="7091640" y="479880"/>
              <a:ext cx="1113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7D7-7B17-4015-A06A-B4B6069459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64CDA-2B31-4055-A733-7BF79DD8EEDE}" type="datetime3">
              <a:rPr lang="en-US"/>
              <a:t>July 29, 2026</a:t>
            </a:fld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1:54:05Z</dcterms:created>
  <dc:creator>Manuela Demontis</dc:creator>
  <dc:description/>
  <dc:language>en-US</dc:language>
  <cp:lastModifiedBy>dcaloger</cp:lastModifiedBy>
  <dcterms:modified xsi:type="dcterms:W3CDTF">2005-06-10T09:51:04Z</dcterms:modified>
  <cp:revision>308</cp:revision>
  <dc:subject/>
  <dc:title>Nessun titolo diapositiva</dc:title>
</cp:coreProperties>
</file>