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5800"/>
            <a:ext cx="65160" cy="6102360"/>
          </a:xfrm>
          <a:prstGeom prst="rect">
            <a:avLst/>
          </a:prstGeom>
          <a:solidFill>
            <a:srgbClr val="b20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078840" y="685800"/>
            <a:ext cx="65160" cy="6102360"/>
          </a:xfrm>
          <a:prstGeom prst="rect">
            <a:avLst/>
          </a:prstGeom>
          <a:solidFill>
            <a:srgbClr val="b20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99160"/>
            <a:ext cx="9144000" cy="258840"/>
          </a:xfrm>
          <a:prstGeom prst="rect">
            <a:avLst/>
          </a:prstGeom>
          <a:solidFill>
            <a:srgbClr val="b20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6600" y="6381720"/>
            <a:ext cx="203400" cy="216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877240" y="6384960"/>
            <a:ext cx="203400" cy="21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133720"/>
            <a:ext cx="2666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ucca, 10 Giugno 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7524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rum Europeo sulla televisione digitale terr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6720" y="4800600"/>
            <a:ext cx="50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Benedetto Habib – Amministratore delegato My-tv S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2400" y="4343400"/>
            <a:ext cx="54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2816"/>
                </a:solidFill>
                <a:latin typeface="Trebuchet MS"/>
              </a:rPr>
              <a:t>I contenuti interattivi per la nuova telev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1844640"/>
            <a:ext cx="849780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3808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94120" y="2711520"/>
            <a:ext cx="8874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960720" y="2194920"/>
            <a:ext cx="776520" cy="206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2513160"/>
            <a:ext cx="0" cy="263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5200" y="4815000"/>
            <a:ext cx="4719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1600" rIns="21600" tIns="-10800" bIns="-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43520" y="2716200"/>
            <a:ext cx="92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spAutoFit/>
          </a:bodyPr>
          <a:p>
            <a:pPr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3240" y="4809960"/>
            <a:ext cx="173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spAutoFit/>
          </a:bodyPr>
          <a:p>
            <a:pPr algn="ctr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8120" y="3173400"/>
            <a:ext cx="855720" cy="20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Merca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1320" y="4314960"/>
            <a:ext cx="2675160" cy="3682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9800" y="3556080"/>
            <a:ext cx="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3520" y="3071880"/>
            <a:ext cx="1627200" cy="1611360"/>
          </a:xfrm>
          <a:custGeom>
            <a:avLst/>
            <a:gdLst>
              <a:gd name="textAreaLeft" fmla="*/ 455400 w 1627200"/>
              <a:gd name="textAreaRight" fmla="*/ 1364760 w 1627200"/>
              <a:gd name="textAreaTop" fmla="*/ 1042920 h 1611360"/>
              <a:gd name="textAreaBottom" fmla="*/ 135144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17463"/>
                </a:moveTo>
                <a:lnTo>
                  <a:pt x="13978" y="17463"/>
                </a:lnTo>
                <a:lnTo>
                  <a:pt x="13978" y="6046"/>
                </a:lnTo>
                <a:lnTo>
                  <a:pt x="10493" y="6046"/>
                </a:lnTo>
                <a:lnTo>
                  <a:pt x="16047" y="0"/>
                </a:lnTo>
                <a:lnTo>
                  <a:pt x="21600" y="6046"/>
                </a:lnTo>
                <a:lnTo>
                  <a:pt x="18115" y="6046"/>
                </a:lnTo>
                <a:lnTo>
                  <a:pt x="18115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11440"/>
            <a:ext cx="119232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4400" y="4551480"/>
            <a:ext cx="2452680" cy="245880"/>
          </a:xfrm>
          <a:prstGeom prst="rect">
            <a:avLst/>
          </a:prstGeom>
          <a:noFill/>
          <a:ln cap="rnd" w="284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4400" y="4194000"/>
            <a:ext cx="2452680" cy="246240"/>
          </a:xfrm>
          <a:prstGeom prst="rect">
            <a:avLst/>
          </a:prstGeom>
          <a:noFill/>
          <a:ln cap="rnd" w="284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4400" y="3846600"/>
            <a:ext cx="2452680" cy="245880"/>
          </a:xfrm>
          <a:prstGeom prst="rect">
            <a:avLst/>
          </a:prstGeom>
          <a:noFill/>
          <a:ln cap="rnd" w="284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middl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3760" y="3476520"/>
            <a:ext cx="2452680" cy="243000"/>
          </a:xfrm>
          <a:prstGeom prst="rect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navigation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73760" y="3089160"/>
            <a:ext cx="2452680" cy="246240"/>
          </a:xfrm>
          <a:prstGeom prst="rect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electronic gu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3120" y="2292480"/>
            <a:ext cx="2452680" cy="245880"/>
          </a:xfrm>
          <a:prstGeom prst="rect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broadc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3120" y="2685960"/>
            <a:ext cx="2452680" cy="249480"/>
          </a:xfrm>
          <a:prstGeom prst="rect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21600" rIns="2160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Arial"/>
              </a:rPr>
              <a:t>brand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70320" y="4338720"/>
            <a:ext cx="2682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54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visione di My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695160"/>
            <a:ext cx="8497800" cy="453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54040" y="1469880"/>
            <a:ext cx="693432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l mercato della televisione interattiva (iTV) è in fase di evoluzione e ricco di opportunità di sviluppo nella maggior parte dei paesi europe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 iTV costituisce una componente fondamentale dell’offerta delle piattaforme televisive dig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ltre ai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assici servizi interattivi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di tipo commerciale (giochi, informazioni, enhanced broadcasting, T-banking, T-commerce, messaggistica, Internet) 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"/>
              </a:rPr>
              <a:t>una notevole importanza sarà assegnata ai servizi interattivi di pubblica ut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"/>
              </a:rPr>
              <a:t>Interessante è la grande area dei cosiddetti “servizi al cittadino” che sono in grado di </a:t>
            </a: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"/>
              </a:rPr>
              <a:t>avvicinare l’utente alla Pubblica Amministrazione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"/>
              </a:rPr>
              <a:t>, sia a livello locale che nazionale e in diversi settori (sanità, fisco, poste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2286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: i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240" y="155736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63640" y="216216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57160" y="273852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843120" y="3860640"/>
            <a:ext cx="48240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695160"/>
            <a:ext cx="8497800" cy="561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09680" y="990720"/>
            <a:ext cx="69343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Il consumo televisivo è un’attività strettamente legata al concetto di tempo li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l tempo dedicato alla tv appare di qualità inferiore rispetto ad altre possibili attività di tempo li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è un tempo completamente ozioso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 passivo sul piano fi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09880" y="2541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57160" y="1052640"/>
            <a:ext cx="482760" cy="25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55720" y="165744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57160" y="230652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rcRect l="0" t="0" r="0" b="1826"/>
          <a:stretch/>
        </p:blipFill>
        <p:spPr>
          <a:xfrm>
            <a:off x="1835280" y="2906640"/>
            <a:ext cx="5472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1413000"/>
            <a:ext cx="8497800" cy="367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66760" y="1994040"/>
            <a:ext cx="69343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l consumo televisivo consiste sempre in una scelta da parte dello spet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eguire un programma implica una continua attività mentale di selezione, ritenzione ed elaborazione del messag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sto assunto viene estremizzato dalle nuove possibilità offerte dall’interattiv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prio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’interattivit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è l’elemento sopra il quale l’industria dell’informazione e dell’intrattenimento punta a riformulare la propria futura offerta televi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2462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43120" y="266544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43120" y="328464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55720" y="3860640"/>
            <a:ext cx="48240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1125360"/>
            <a:ext cx="8497800" cy="446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5680" y="1609560"/>
            <a:ext cx="693396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 tratti peculiari su cui si fonda l’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nterattività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so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l’idea di uno spettatore sempre meno pas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un’attività dello spettatore che va oltre il cambio di canali e lo sfoglio delle pagine del tele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la diffusione dell’utilizzo del “</a:t>
            </a: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canale di ritorno”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 che è un canale di comunicazione che va dagli utenti verso l’emittente, gli utenti hanno la possibilità di retroagire con l’emittente ste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per l’</a:t>
            </a: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utente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 quindi c’è la possibilità di fruire del contenuto in tempi asincroni, liberandolo così ancora di più dalla gabbia del palins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per l’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emittente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(e quindi per gli investitori pubblicitari) esiste quindi la possibilità di avere risposta (feedback), necessaria per conoscere meglio i gusti e i comportamenti dello spet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28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43120" y="198900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1320" y="242100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41320" y="2997360"/>
            <a:ext cx="482760" cy="25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41320" y="389088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49240" y="4437000"/>
            <a:ext cx="4827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1125360"/>
            <a:ext cx="8497800" cy="446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47640" y="1486080"/>
            <a:ext cx="693432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r un certo periodo la nuova tv si troverà in una fase di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perimentazione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 continuerà a produrre contenuti tradizionali, arricchendoli con opzioni interattive, la cosiddetta “Enhanced TV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l’analisi e la valutazione delle reazioni dell’utenza ai </a:t>
            </a: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nuovi contenuti interattivi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 dovrà essere strumento fondamentale di lavoro proprio per creativi, autori e content designer che penseranno i programmi della “tv del futur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l’interattività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 infatti andrebbe concepita e integrata a monte del prodotto, nella sua </a:t>
            </a:r>
            <a:r>
              <a:rPr b="1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fase di ideazione</a:t>
            </a: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 e lo stesso vale anche per l’integrazione dei vari elementi multimedi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rebuchet MS"/>
                <a:ea typeface="Arial Unicode MS"/>
              </a:rPr>
              <a:t>in particolare, il rischio da evitare è quello di creare una sorta di competizione interna tra contenuti, ovvero la possibilità che contenuti interattivi correlati al programma rubino tempo alla visione del programma st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8200" y="254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41320" y="148428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41320" y="237816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28720" y="3500280"/>
            <a:ext cx="482400" cy="25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4827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1125360"/>
            <a:ext cx="8497800" cy="395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482760" cy="258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09680" y="1484280"/>
            <a:ext cx="69343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 personalizzazione del consumo televisiv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rà ai massimi livelli con la diffusione anche in Italia del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VR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(Personal Video Recor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 fruizione è slegata dai rigidi vincoli palinsest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mbia il modo di fruire i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tenuti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si può creare un palinsesto personalizzato ed evitare la pubbl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mbia il modo di pensare la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ubblicità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nuove sfide per l’advertising, la pubblicità dovrà trovare spazio nell’E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9920" y="2541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contenuti interattivi su piattaform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6920" y="288288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6920" y="3241800"/>
            <a:ext cx="482760" cy="25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26920" y="3860640"/>
            <a:ext cx="4827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981000"/>
            <a:ext cx="8497800" cy="453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70040" y="1635120"/>
            <a:ext cx="625320" cy="339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52520" y="1616040"/>
            <a:ext cx="696456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In Italia la conoscenza dei contenuti multimediali e delle potenzialità delle nuove piattaforme digitali è ancora ba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Rispetto al contesto europeo, l’offerta italiana non soddisfa alcune sollecitazioni della domanda (servizi di localizzazione, servizi bancari, e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’ in atto una progressiva e massiccia conversione dei contenuti di qualsiasi tipo dai formati analogici ai formati dig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 televisione, l’unico mass media rimasto “analogico”, sta velocemente recuperando rispetto agli altri attraverso la diffusione e la sperimentazione di nuovi servizi offerti dalla televisione digit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’interattività è l’elemento sul quale l’industria dell’informazione e dell’intrattenimento punta a riformulare la propria futura of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4080" y="2205000"/>
            <a:ext cx="625680" cy="339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84080" y="3068640"/>
            <a:ext cx="625680" cy="339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93800" y="3736800"/>
            <a:ext cx="625320" cy="339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98480" y="4602240"/>
            <a:ext cx="625680" cy="339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69920" y="2397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clu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695160"/>
            <a:ext cx="8497800" cy="589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38400" y="754200"/>
            <a:ext cx="6933960" cy="67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 tecnologie di telecomunicazione, l’informatica e i nuovi media (come l’editoria e la tv) sono entrati in un processo di metamorfosi che li porta a convergere e ad assumere caratteristiche ibrid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e in un ecosistema, il meccanismo che si registra con l’avvento di una nuova tecnologia fra media vecchi e nuovi non è di sostituzione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 ma di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ffiancamento, completamento e reciproca trasformazion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scenario che si presenta è quello di lente transizioni e di lunghi periodi di convivenza.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I presupposti che rendono possibile questo processo di convergenza son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La progressiva conversione dei contenuti di qualsiasi tipo dai formati analogici ai formati digitali,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in modo da alimentare </a:t>
            </a:r>
            <a:r>
              <a:rPr b="0" i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libreries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interrogabili, utilizzabili a domanda e fruibili indipendentemente dal dispositivo tecnologico che funge momentaneamente da term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La disponibilità sempre maggiore di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reti di comunicazione a banda larga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, cioè capaci di far passare il flusso di informazione digitalizz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La disponibilità di tecnologie di personalizzazione dei contenuti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, in modo da superare la connotazione di massa dei media del novecento e di inseguire gli interessi e le specifiche esigenze “qui ed ora” del singolo individ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La capacità di calcolo crescente dei devices </a:t>
            </a:r>
            <a:r>
              <a:rPr b="0" lang="it-IT" sz="1400" spc="-1" strike="noStrike">
                <a:solidFill>
                  <a:srgbClr val="000000"/>
                </a:solidFill>
                <a:latin typeface="Trebuchet MS"/>
                <a:ea typeface="Arial"/>
              </a:rPr>
              <a:t>(che segue la legge di Mo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2541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76160" y="108252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48276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695160"/>
            <a:ext cx="8497800" cy="518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54040" y="914400"/>
            <a:ext cx="693432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Arial"/>
              </a:rPr>
              <a:t>I nuovi media non sorgono spontaneamente e indipendentemente, ma emergono gradualmente dalla metamorfosi dei vecchi mezzi che generalmente non muoiono, ma continuano ad evolversi e ad adattars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questo contesto, le nuove tecnologie digitali tentano di mettere in crisi il senso della tv generalista per specializzarsi su un’offerta personalizz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na delle novità dell’avvento della tv digitale è dato proprio dall’importanza del tratto di “personalizzazione” del consumo mediatico che ha fatto parlare di trasformazione del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“mass-media”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per definizione in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“personal media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realtà questa personalizzazione si scontra con un elemento paradossale di natura sociale: la tv è strumento di consumo collettivo intra-familiare, la sua torsione ad autentico “personal media” come ad esempio il cellulare è fortemente improbabil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541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49240" y="122544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49240" y="234936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49240" y="3429000"/>
            <a:ext cx="482760" cy="25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49240" y="4724280"/>
            <a:ext cx="4827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380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5416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: L’evoluzione della do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2840" y="957240"/>
            <a:ext cx="8580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040" y="1204920"/>
            <a:ext cx="8575920" cy="542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380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228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: L’evoluzione dell’ of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71640" y="1754280"/>
            <a:ext cx="55944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0040" y="1204920"/>
            <a:ext cx="8575920" cy="542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2379"/>
          <a:stretch/>
        </p:blipFill>
        <p:spPr>
          <a:xfrm>
            <a:off x="2843280" y="1600200"/>
            <a:ext cx="5327640" cy="399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254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Verso il digitale: il mercato dell’e-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300640"/>
            <a:ext cx="4103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5445000"/>
            <a:ext cx="59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Fonte: Federcomin / DIT: Rapporto e-content 2005 -  Elaborazioni Net Consul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0040" y="1204920"/>
            <a:ext cx="8575920" cy="542304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002200" y="2271600"/>
            <a:ext cx="6786360" cy="360"/>
            <a:chOff x="5002200" y="2271600"/>
            <a:chExt cx="6786360" cy="360"/>
          </a:xfrm>
        </p:grpSpPr>
        <p:sp>
          <p:nvSpPr>
            <p:cNvPr id="75" name=""/>
            <p:cNvSpPr/>
            <p:nvPr/>
          </p:nvSpPr>
          <p:spPr>
            <a:xfrm>
              <a:off x="5002200" y="2271600"/>
              <a:ext cx="6786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2200" y="2271600"/>
              <a:ext cx="6786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46760" y="7472520"/>
            <a:ext cx="2827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 marL="506520" indent="-506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43280" y="1727280"/>
            <a:ext cx="5545080" cy="379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1312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Verso il digitale: il mercato dell’e-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0040" y="1204920"/>
            <a:ext cx="8575920" cy="542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879640" y="1787400"/>
          <a:ext cx="5508720" cy="37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9640" y="1787400"/>
                    <a:ext cx="5508720" cy="37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979640" y="228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: Contenuti e tecnologie 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500" r="0" b="2514"/>
          <a:stretch/>
        </p:blipFill>
        <p:spPr>
          <a:xfrm>
            <a:off x="395280" y="695160"/>
            <a:ext cx="8497800" cy="518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380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60360" y="993600"/>
            <a:ext cx="684072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8108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so il digitale: la filiera della tv intera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1:59:27Z</dcterms:created>
  <dc:creator>mao lio</dc:creator>
  <dc:description/>
  <dc:language>en-US</dc:language>
  <cp:lastModifiedBy>Amministratore</cp:lastModifiedBy>
  <dcterms:modified xsi:type="dcterms:W3CDTF">2005-06-10T08:08:04Z</dcterms:modified>
  <cp:revision>134</cp:revision>
  <dc:subject/>
  <dc:title>PowerPoint Presentation</dc:title>
</cp:coreProperties>
</file>