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BAD-F66E-4E62-AA78-7D1BDEE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1CF-D9F4-441C-88A7-2FD2EB83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9C9-2542-43AC-BE82-8EEF8502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8A0-3FEA-4343-9845-1947F9A3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A25-9FE4-4107-A022-D42AC3AB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95A-084E-4CA5-910D-3207CAA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8B2-9991-4DC5-B87E-2B192DF6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463-47E8-49D1-8F03-192323FF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3FF-BA70-4318-AF89-7CA46DD8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4B6-177A-4AD2-A5FD-F2438F6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F8D-C99A-4075-AD6B-B4264F59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CA1-AA06-4435-9C9F-A44BD8C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2023-4644-4C8D-9C7D-7E46CCF3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9:59:33Z</dcterms:created>
  <dc:creator>giacomo</dc:creator>
  <dc:description/>
  <dc:language>en-US</dc:language>
  <cp:lastModifiedBy>giacomo</cp:lastModifiedBy>
  <dcterms:modified xsi:type="dcterms:W3CDTF">2005-06-10T10:04:54Z</dcterms:modified>
  <cp:revision>2</cp:revision>
  <dc:subject/>
  <dc:title>Diapositiva 1</dc:title>
</cp:coreProperties>
</file>