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416-D2CF-45B5-927A-69EA182C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EE1-7929-4FFC-88C9-C4A7B075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007-C1D9-455E-BA88-BF8C5902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C81-C2F4-457A-B673-64B7AD1D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D7E-7429-421A-B20A-AE3F6B9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44EB-FD37-4B8E-80A7-5549C264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615E-EFFE-45EF-84BA-8B5937D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4F27-88D6-4691-AC55-824FDEB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39C-D068-492B-9299-06F4E09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BED9-A759-4374-BA2F-5AE0AE9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2FE8-D991-44B7-AED3-8A9EFA1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2B4-1020-4030-89BA-5311646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961-73E5-4900-9BAE-764465E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A629-9C97-4EC1-8A86-136961E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681-C251-4563-9B62-1B30C9A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72B-6E8F-4458-AB34-53AC6416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AAE4-4BB8-48C1-B3F9-40B113C6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CE8-D8A9-4B1C-8172-A83C8994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D03-95D2-4FEA-9060-43770B2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24E-03BF-4733-9047-F125FFC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1D0-A0C4-4568-86B9-F1559D1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BF6-E947-4E24-B7D6-6C995BB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284-A9F5-4769-98EA-5167BDD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0AA-088B-400F-8360-B21849C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640-FD33-4D7A-A05D-6E0E5352B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25F-0B49-4B16-B8DD-80A0E2480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8920" y="292428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zi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Digitale Terrestre in It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l 2003 a og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12 anni di 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4582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 Expo ha creato il maggiore evento internazionale in Italia in tema di telecomunicazioni televisive e satellitari destinato ad operatori e professionisti degli impianti di distrib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 Expo, con il supporto di Eutelsat e Eurosatellite,   ha contribuito a creare  la più grande rete di installatori specializzati nella tv via satellite d’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tto questo sta avvenendo oggi anche per il settore DTT, a partire dalla collaborazione nata nel 2003 fra la Fondazione “Ugo Bordoni” e SAT Ex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2004 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.000 mq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di area esposit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1°Edizion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1° come manifestazione internaz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2.000 operator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rovenienti da 32 pa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 espositor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il 20% dei quali est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ferenze e forum in tre gior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0 giornalist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ccreditati provenienti da tutto il m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Digitale Terrestre al SAT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DTT (produzione e distribuzione di ricevitori, sistemi di distribuzione, fornitori di contenu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dizione della Conferenza nazionale sul Digitale Terrestre (Fondazione “Ugo Bordoni” e Ministero delle Comunicazio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DTT allo Smau (Salone dell’elettronica di consumo) di Mil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Digitale terrestre al SAT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po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ea espositiva con Broadcasters (RAI, Mediaset, LA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uti interat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ttori di Set-Top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ianti centralizz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3a Conferenza Nazionale sul Digitale Terrestre, a cura della Fondazione “Ugo Bordon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orkshop Europeo DTT, con la partecipazione di aziende leader nella vendita di set-top box per la televisione digi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rtecipazione delegazioni di Slovenia, Croazia, Romania, Bulgaria e Turch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Attivita’ Oper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TV Expo Forum (area dedicata a contenuti e prodotti DTV e HDT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HD Council / HDFORUM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ociazioni per la promozione della 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viluppo della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Mobile TV : Trial DVB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CT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ea Medmatic@ (Telemedic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atellite-Video broadc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lecomunicazioni bidirezionali via 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azione Bord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A Spaz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visioni Festi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P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ranti-Cora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odigi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iel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oc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e Comunicaz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e Attività Produt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’Innovazione e delle Tecn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gione Ven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3740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AT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200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066320"/>
            <a:ext cx="85374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era di Vicenza - 12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Arial"/>
              </a:rPr>
              <a:t>ma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dizion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al 29 Settembre all’1 otto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9:38:22Z</dcterms:created>
  <dc:creator>Alessandro</dc:creator>
  <dc:description/>
  <dc:language>en-US</dc:language>
  <cp:lastModifiedBy>AB</cp:lastModifiedBy>
  <dcterms:modified xsi:type="dcterms:W3CDTF">2005-06-10T09:24:30Z</dcterms:modified>
  <cp:revision>169</cp:revision>
  <dc:subject/>
  <dc:title>Una panoramica sul merca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365344</vt:r8>
  </property>
  <property fmtid="{D5CDD505-2E9C-101B-9397-08002B2CF9AE}" pid="3" name="_AuthorEmail">
    <vt:lpwstr>ipivato@satexpo.it</vt:lpwstr>
  </property>
  <property fmtid="{D5CDD505-2E9C-101B-9397-08002B2CF9AE}" pid="4" name="_AuthorEmailDisplayName">
    <vt:lpwstr>Ilaria Pivato</vt:lpwstr>
  </property>
  <property fmtid="{D5CDD505-2E9C-101B-9397-08002B2CF9AE}" pid="5" name="_EmailSubject">
    <vt:lpwstr>da Ilaria x Forum di Lucca</vt:lpwstr>
  </property>
  <property fmtid="{D5CDD505-2E9C-101B-9397-08002B2CF9AE}" pid="6" name="_PreviousAdHocReviewCycleID">
    <vt:r8>222002491</vt:r8>
  </property>
  <property fmtid="{D5CDD505-2E9C-101B-9397-08002B2CF9AE}" pid="7" name="_ReviewingToolsShownOnce">
    <vt:lpwstr/>
  </property>
</Properties>
</file>