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5B32-2753-4305-9E85-9C9FC63FB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0B07-5A36-44A5-AF78-FFA095C96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BB2C-014C-49FE-98B7-25FB93E30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78F2-C24F-403F-9164-81EB9E175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7067D-105A-44E1-AAB0-93A1C8419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1C81C-F153-48EE-B041-42E078C7C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1A41-5AB7-49C7-B02F-8686DA8A2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5C1F4-DFDA-46CB-96F2-2E7DF6DE5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2E94-27A6-440E-80CC-BA6D381D9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B934-CA18-4932-9865-F5DFD3CB9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DEF3-72D0-4B2B-B3E6-650DDAC06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EF41B-C62D-460A-AFFE-1E275ED98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521000"/>
            <a:ext cx="8458200" cy="255564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ipa.i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1591920"/>
            <a:ext cx="86407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Verdana"/>
              </a:rPr>
              <a:t>Il Progetto t-Government</a:t>
            </a:r>
            <a:br>
              <a:rPr sz="4400"/>
            </a:br>
            <a:br>
              <a:rPr sz="2400"/>
            </a:br>
            <a:r>
              <a:rPr b="0" lang="it-IT" sz="5400" spc="-1" strike="noStrike">
                <a:solidFill>
                  <a:srgbClr val="cbcbcb"/>
                </a:solidFill>
                <a:latin typeface="Verdana"/>
              </a:rPr>
              <a:t>T-CiTel 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879640" y="4868640"/>
            <a:ext cx="3888000" cy="17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Resp. E-Gover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Dott. Franco Che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omune di Pi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.chesi@comune.pisa.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971280" cy="1187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CNIPA:Centro Nazionale per l'Informatica nella Pubblica Amministrazion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297000"/>
            <a:ext cx="3019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Progetto di E-Goverment CiT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980720"/>
            <a:ext cx="723744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Cofinanziato nell’ambi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del 1° avviso del M.I.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31 Enti partecipan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7 Partner: Tecnologici e Scientifi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Operativo in 9 Comu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Obiettiv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a fruizione di servizi On-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a Multiutenz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a Multicanalit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l Multiacces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l Riuso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696000" y="1844640"/>
            <a:ext cx="2158920" cy="1085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13440" y="-63360"/>
            <a:ext cx="2122560" cy="874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3080" y="7920"/>
            <a:ext cx="1619280" cy="70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2A0E-2D65-4C1B-8017-1EE64A5D72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bcbcb"/>
                </a:solidFill>
                <a:latin typeface="Verdana"/>
              </a:rPr>
              <a:t>Progetto T - CiT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Scheda proget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osto 400.000 eu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ofinanziamento 70.000 eu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vestimento Comune di Pisa 140.000 eu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vestimento partner Regulus 40.000 eu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Acquisto 200/250 deco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iffusione del servizio su 8 Comu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E7D2F-187D-491A-863F-8AAA0BC7ED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bcbcb"/>
                </a:solidFill>
                <a:latin typeface="Verdana"/>
              </a:rPr>
              <a:t>Progetto T - CiT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Emittenti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Home shopping Europe Broadcas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Telegranducato di Tosca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igitosca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Altri partner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Università e C.N.R. di Pi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Mediateca Regionale Toscana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FAF7-26BE-4C66-9624-CA29199129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bcbcb"/>
                </a:solidFill>
                <a:latin typeface="Verdana"/>
              </a:rPr>
              <a:t>Progetto T - CiT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980720"/>
            <a:ext cx="82818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Obiettivi: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fornire al bacino di utenza di CiTel un’ulteriore canale d’accesso per la fruizione dei servizi già oggi erogati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Servizi offerti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nformativi: informazioni istituzionali, gli eventi di maggiore rilievo …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Servizi interattivi (di e-government): Servizio S.M.S. e Registro di classe on-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6849-A459-4AB7-ACE0-AB9CE4C6C1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Attività di rius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844640"/>
            <a:ext cx="838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33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Bando C.N.I.P.A. sul RIUS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2976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resentate soluzioni per 7 aree con in aggiunta anche la fruizione di alcuni servizi tramite il canale digitale terres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26EB3-3BF3-4DD2-BC41-8E559725FF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ndard</cp:lastModifiedBy>
  <dcterms:modified xsi:type="dcterms:W3CDTF">2005-06-08T17:41:12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