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E45-5F80-452A-8B6B-8FD8D26B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FF7-6786-411E-BF2D-7C1AEC0D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C34-E691-4D99-A4C2-0A8D5772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7DB-DB28-4CFD-9B68-F1DC687C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D306-5AD8-4A4A-9CA2-693BECCB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BF4-C75E-4FA0-B088-54F6EB48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ED3-8ADA-47FC-83D7-044DB5E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647E-E777-4C15-A8DF-0ED9E50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A7A-0333-4A5C-AAB6-FFC950F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C47F-39F8-4141-8BCE-F66B8C76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938-C50A-4FC8-A16D-C11CF83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124-F94D-4912-9ADF-0A648D8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687-4B9E-42CC-826B-F59B443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1FAC-C2B0-426F-AF28-6CC8F43D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A38F-A5B8-420E-A6D3-14E1AFD2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A52-4A35-4B53-8726-7BB35BBF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F121-FA6C-4893-8CAC-B99128C3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914-C471-4145-9C91-A08EE39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74B-D46B-4F27-BBD0-79A7B7C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EC5-1BBC-40AD-97C0-238BD14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9D4-CDBA-45FE-94BE-F5DF39C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9AF-D76C-4D88-AA25-E3A58F8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826-9E45-4DD1-A512-948DAE2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FDF-7B0D-41D8-8397-03724327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4D9-BF93-4EB9-AED2-17955C349C6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CAEB-33E2-41FC-9311-1CBCCA6DF44D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33ff"/>
                </a:solidFill>
                <a:latin typeface="Tahoma"/>
              </a:rPr>
              <a:t>Il Progetto DI’ LUCC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lo sviluppo dei servizi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-governmen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attaforma digitale terres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cardo Del Do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000000"/>
                </a:solidFill>
                <a:latin typeface="Tahoma"/>
              </a:rPr>
              <a:t>Responsabile Progetto Dì Lucc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ff"/>
                </a:solidFill>
                <a:latin typeface="Tahoma"/>
              </a:rPr>
              <a:t>Forum Europeo Digitale terrestre - Lucca, 10 giugno 200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3B5FC8F6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524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Le caratteristiche del MU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X illumina la provincia di Lucca, Pisa e Livorno attraverso i sit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onte Pianell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pannori (LU), quota s.l.m 183 metr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Pietra Pertus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pannori (LU), quota s.l.m. 951 m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onte Serra Bass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lci (PI), quota s.l.m. 860 m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ltiplex di 22 Mb/s prevede 4 canali audio/video da 4 Mb/s e 3  canali per singole applicazioni MHP da 2Mb/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4Mb/s + 2 Mb/s dedicati al canale civic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X copre 1.088 kmq e circa 540.000 abita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Decoder MHP sul territo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2381400" cy="819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l Comune di Lucca sono presenti oltre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0.000 decoder interatt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29,2% delle famiglie sono in possesso di un STB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Comune di Lucca, attraverso HSEB, ha distribuito gratuitamente oltre 300 decoder, grazie ai contributi ministeria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ltre 800 decoder distribuiti da HSEB, con i contributi ministeriali. La consegna è stata effettuata ad personam con test operativo, informazioni e dettagli sulla tecnica digitale terres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.100 utent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he hanno ricevuto il STB,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nno sottoscritto formalmen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’adesione alla sperimentazi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sponibilità a test tecnico-operativi per analisi di qualità, prove di usabilità e sul gradimento dell’offerta digit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Progetto DI’ LUCCA: l’architettu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00720" cy="396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2900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Attività e tempi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2057400"/>
            <a:ext cx="81993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Settembre 2005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get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infrastrutture e servizi applicativi, set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entro servizi e infrastruttura broadca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Ottobre 2005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vilupp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applicazioni, test e validazione in laboratorio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gettazione degli strumenti di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Novembre 2005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vvi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d esercizio del servizio e inizio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arzo 200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el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Giugno 2005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vent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iniziative dirette ai cittadini per la promozione d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arzo 200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Monitoraggio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276280"/>
            <a:ext cx="735012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onitoraggio sarà effettuato a partire dal 5° mese e si protrarrà fino al termine del proget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onitoraggio sarà condotto attraverso due fasi distin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)  Interviste periodiche a 500 soggetti scelti a campione tra gli utenti beneficiari (1100) e tra quanti hanno fornito la propria disponibilità, tra i 2.100 STB acquistati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Canale d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valutare la percezione soggettiva della qualità dei serviz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)  Attività di monitoraggio automatico basata sull’analisi dei log dell’applic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Obiettivi de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) Fornitura di servizi di e-government sulla piattaforma digitale terrest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) Verifica dell’efficacia delle soluzioni e dei servizi offert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) Verifica tecnologica dell’architettura in progetto, della flessibilità del sistema e del modello organizzativ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) Induzione su scala locale di competenze tecnologiche per consolidare la possibilità di sviluppo di soluzioni e applicazioni sulla piattaforma DT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Le tappe de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23 maggio 200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Iniziativa di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di Luc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il progetto dell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y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25 giugno 200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ome Shopping Europe Broadcastin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ccende nell’area di Lucca, Pisa e Livorno il MUX per il DVB-t, avendo ricevuto la prima abilitazione alle trasmissioni in tecnica digitale terrestre nell’ambito reg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12 marzo 2004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sigla con i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di Luc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l’Accordo di servizio per l’avvio della sperimentazione pubblica come da articolo 41, comma 7, Legge 3 del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DI’ LUCCA citytelevision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linsesto orientato alle news, approfondimenti giornalistici, cultura, economia, spettacolo, promozione del territorio e realtà loc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 informazioni provenienti dalla P.A., Enti ed Associazioni sono elaborate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estite e predisposte mediante un server centr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l format video, lo sticker verticale contiene informazioni e notizie dal Comune di Lucca, l’orizzontale è dedicato alle notizie di interesse ed utilità pubbl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foto%20Dì%20Lucca%202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486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icker orizzon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486400"/>
            <a:ext cx="1143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icker vert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006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TINERA: al servizio dei turi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6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llaborazione con Comune di Lucca ed il Consorzio Itinera è nato un format dedicato al turismo, una guida giornaliera con  eventi, manifestazioni ed iniziative  presenti nell’area di Luc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32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format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tinerand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della durata di 30’, viene trasmesso a partire dalle 7.30 e diffuso in italiano ed inglese. La programmazione pomeridiana è prevista dalle ore 18.3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32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no stati distribuiti STB ad hotel, alberghi ed alle altre strutture del territorio che possono così ricevere il format attraverso la citytelevis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10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l risposta al bando CNIPA, il Comune di Lucca ha proposto un progetto, con il primo obiettivo di creare una piattaforma digitale su cui poter rendere utilizzabili i servizi erogati con la rete we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 l’inizio dell’interattività i cittadini potranno utilizzare la televisione di casa per consultare banche dati ed avere informazioni s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e Cit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iovani e Scu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mbiente e Territo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adini e Impre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05160" y="2060280"/>
            <a:ext cx="38098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etto DI’ LUCC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perimenta l’erogazione di servizi di natura informativa ricevibili attraverso il STB con funzioni MH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progetto mette a fuoco la possibilità di attingere in maniera automatica alla base di conoscenza centralizzata fonte dei servizi informativi erogati dal Comune (URP, web, call cen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il progetto sono stati selezionati sottoinsiemi significativi rispetto l’utenza potenzi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ito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6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220640"/>
            <a:ext cx="7417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ittàdigitali</a:t>
            </a:r>
            <a:r>
              <a:rPr b="0" lang="it-IT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editore televisivo e società fornitrice di contenuti televisivi nel sistema digitale terrestre. Cittàdigitali intende promuovere ed incentivare lo sviluppo della radiodiffusione televisiva in tecnica DVB-t e nel 2003 ha trasmesso alla Fondazione Ugo Bordoni formale manifestazione di interesse per la sperimentazi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logo cittadigitali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2057400" cy="1655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3573360"/>
            <a:ext cx="777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SP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novazione nelle ICT è un Centro di eccellenza per la ricerca, sviluppo e sperimentazione di tecnologie avanzate informatiche e telematich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SP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è riconosciuto come Laboratorio di Ricerca dal M.I.U.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 attivato il </a:t>
            </a: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DTT-Lab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un proprio laboratorio di ricerca nell’ambito DVB-t, in grado di replicare e gestire in laboratorio l’intera catena di distribuzione di un sistema DTT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csp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6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3213000"/>
            <a:ext cx="7705800" cy="29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Home Shopping Europe Broadcast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proprietaria degli impianti di trasmissione, gestisce attraverso 280 impianti l’irradiazione dei programmi televisivi nazionali d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anale d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raggiungendo l’82% delle famiglie italian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.S.E.B.  il 10 gennaio 2003 ha ottenuto le necessarie autorizzazioni per la sperimentazione della tecnologia DVB-t ed ha avuto accesso ai contributi previsti dal D.M. 24 dicembre 2003 del Ministero delle Comunicazioni di concerto con il Ministero dell’economia per l’acquisto dei STB interattivi, diffusi sul nell’area lucche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hse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23036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28:29Z</dcterms:created>
  <dc:creator>SBarbini</dc:creator>
  <dc:description/>
  <dc:language>en-US</dc:language>
  <cp:lastModifiedBy>COMUNE DI LUCCA</cp:lastModifiedBy>
  <dcterms:modified xsi:type="dcterms:W3CDTF">2005-06-09T14:26:03Z</dcterms:modified>
  <cp:revision>58</cp:revision>
  <dc:subject/>
  <dc:title>DI’ LUCCA citytelevision </dc:title>
</cp:coreProperties>
</file>