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FED-9BE4-4F6F-AB14-A72292F0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5C6-9467-4BDD-AC38-F05D9C60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680-6D40-44F1-B2A8-9F292657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6CE-5C16-4355-BCAC-E7C65A0C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A2FE-1D79-43C4-979F-F94F635D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531C-21ED-4D0E-A737-B8B9D4F6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DE4F-3E11-46D6-A25D-632BA4A2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7F47-0F9C-49DE-AC00-1B39C989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CE64-421F-43E8-A5CB-A2AD31A7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A2A3-BFBA-4099-AAB9-6E95486B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A5AA-E6D9-4F46-9A8C-A97F2FE4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ACD-3FF3-4244-850A-EF344680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2D19-C59C-4501-9E92-4CBF5AC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4161-0642-4455-8D53-9B244965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5D36-01DE-4A60-B25A-FB20D135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9477-57C8-4C75-860C-FF43322D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3380-D23D-456A-AFB9-A88A6055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786-6B29-43D4-BEDE-137B8A40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A97-BEBC-47CC-B828-D2750AA0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1C2-AF56-476A-B863-9142B43A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E7B5-299D-4FFC-B330-EE1BAAB5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8DD-8307-4E61-9494-0EFB3860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F8F-20EA-4380-A45D-2BF66BD1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D69-93D7-45B1-8627-3A765F65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55E6-657A-4B0A-9D85-FF42F03A80BD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248520" y="0"/>
          <a:ext cx="2895480" cy="550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0"/>
                    <a:ext cx="28954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EA84-6AAF-4F38-8657-5F065E455C75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03640" y="0"/>
          <a:ext cx="2895480" cy="550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0"/>
                    <a:ext cx="28954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0.xml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CASPER: Canale di Servizio Pubblico Emilia-Romagna</a:t>
            </a:r>
            <a:br>
              <a:rPr sz="36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la strada verso Lepida-TV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14400" y="3657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rof. Gianluca Mazzi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Gruppo di Indirizzo per le Telecomunicazion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niversità degli Studi di Ferra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gione Emilia-Romag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78D2-70FF-4995-90AD-6F3A30AFCB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9560" y="228240"/>
            <a:ext cx="76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risulta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etamodello delle modalità di interscambio da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etamodello di descrizione dei serviz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pplicazioni MH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zione di processi di erogazione di servizi di T-Govern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teroperabilità tra più Centri Serviz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ati e statistiche di serviz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viluppo e condivisione di conoscenze/approcci/metodologie/linee gui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mozione del digitale terrest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33F-0D86-4507-96C7-145E528312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708600" y="6027840"/>
            <a:ext cx="671760" cy="482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03280" y="1494000"/>
            <a:ext cx="4529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Arial"/>
              </a:rPr>
              <a:t>Sanità in TV - Cartella clinica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857760" y="6211800"/>
            <a:ext cx="252360" cy="117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22360" y="1763640"/>
            <a:ext cx="4697280" cy="208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Arial"/>
              </a:rPr>
              <a:t>Inserisci Cognome e Codice Nosologico </a:t>
            </a:r>
            <a:r>
              <a:rPr b="0" lang="it-IT" sz="1800" spc="-1" strike="noStrike">
                <a:solidFill>
                  <a:srgbClr val="40458c"/>
                </a:solidFill>
                <a:latin typeface="Arial"/>
              </a:rPr>
              <a:t>nei campi</a:t>
            </a:r>
            <a:r>
              <a:rPr b="0" lang="it-IT" sz="1600" spc="-1" strike="noStrike">
                <a:solidFill>
                  <a:srgbClr val="40458c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Arial"/>
              </a:rPr>
              <a:t>Entrambi servono per garantire l’univocità e la Sicurezza della rispost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Arial"/>
              </a:rPr>
              <a:t>Usa le frecce del telecomando per muoverti sulla  </a:t>
            </a:r>
            <a:r>
              <a:rPr b="0" lang="it-IT" sz="1800" spc="-1" strike="noStrike">
                <a:solidFill>
                  <a:srgbClr val="40458c"/>
                </a:solidFill>
                <a:latin typeface="Arial"/>
              </a:rPr>
              <a:t>tastiera a video</a:t>
            </a:r>
            <a:r>
              <a:rPr b="0" lang="it-IT" sz="1600" spc="-1" strike="noStrike">
                <a:solidFill>
                  <a:srgbClr val="40458c"/>
                </a:solidFill>
                <a:latin typeface="Arial"/>
              </a:rPr>
              <a:t> e premi OK. Spostarti da un campo all’altro con “Scegli campo”. Alla fine premi GIALL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4440" y="4300560"/>
            <a:ext cx="188280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Cognom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4440" y="4897440"/>
            <a:ext cx="188280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Nosologic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4875120"/>
            <a:ext cx="24526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44600" y="4254480"/>
            <a:ext cx="24526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1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733400" y="6051600"/>
            <a:ext cx="709920" cy="395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Rectangle: Click to edit Master text styles&#13;&#10;Second level&#13;&#10;Third level&#13;&#10;Fourth level&#13;&#10;Fifth level"/>
          <p:cNvPicPr/>
          <p:nvPr/>
        </p:nvPicPr>
        <p:blipFill>
          <a:blip r:embed="rId5"/>
          <a:stretch/>
        </p:blipFill>
        <p:spPr>
          <a:xfrm>
            <a:off x="5872320" y="6054840"/>
            <a:ext cx="609480" cy="471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5416560" y="3586320"/>
            <a:ext cx="3362400" cy="1446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524640" y="3781440"/>
            <a:ext cx="223920" cy="25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94320" y="3649680"/>
            <a:ext cx="2667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45240" y="367020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9000" y="367020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5400" y="367020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6160" y="3670200"/>
            <a:ext cx="3636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26400" y="367020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92800" y="367020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18240" y="367020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32400" y="3927600"/>
            <a:ext cx="3618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45240" y="3927600"/>
            <a:ext cx="3618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39000" y="3927600"/>
            <a:ext cx="3618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05400" y="3927600"/>
            <a:ext cx="36216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6160" y="3927600"/>
            <a:ext cx="3636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13800" y="3670200"/>
            <a:ext cx="36324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80200" y="367020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62800" y="3670200"/>
            <a:ext cx="3636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19800" y="4457880"/>
            <a:ext cx="57636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Can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13800" y="3927600"/>
            <a:ext cx="36324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80200" y="3927600"/>
            <a:ext cx="36216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62800" y="3927600"/>
            <a:ext cx="3636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13800" y="4189320"/>
            <a:ext cx="36324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80200" y="418932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62800" y="4189320"/>
            <a:ext cx="3636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80200" y="450216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16560" y="4189320"/>
            <a:ext cx="3636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45240" y="418932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39000" y="418932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5400" y="418932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6160" y="4189320"/>
            <a:ext cx="3636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26400" y="418932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92800" y="418932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18240" y="418932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45000" y="4457880"/>
            <a:ext cx="36216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45240" y="4457880"/>
            <a:ext cx="36180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26400" y="3927600"/>
            <a:ext cx="3618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92800" y="3927600"/>
            <a:ext cx="36216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18240" y="3927600"/>
            <a:ext cx="36216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54840" y="4457880"/>
            <a:ext cx="62208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40458c"/>
                </a:solidFill>
                <a:latin typeface="Arial"/>
              </a:rPr>
              <a:t>Spazi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51760" y="4457880"/>
            <a:ext cx="36360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64320" y="4457880"/>
            <a:ext cx="36216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81800" y="4751280"/>
            <a:ext cx="10494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Scegli camp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7275600" y="4422600"/>
            <a:ext cx="127080" cy="276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7677360" y="4421880"/>
            <a:ext cx="114480" cy="277560"/>
          </a:xfrm>
          <a:prstGeom prst="triangle">
            <a:avLst>
              <a:gd name="adj" fmla="val 53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21440" y="4548240"/>
            <a:ext cx="176400" cy="84240"/>
          </a:xfrm>
          <a:custGeom>
            <a:avLst/>
            <a:gdLst>
              <a:gd name="textAreaLeft" fmla="*/ 0 w 176400"/>
              <a:gd name="textAreaRight" fmla="*/ 176760 w 1764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692760" y="4554360"/>
            <a:ext cx="177840" cy="82800"/>
          </a:xfrm>
          <a:custGeom>
            <a:avLst/>
            <a:gdLst>
              <a:gd name="textAreaLeft" fmla="*/ 0 w 177840"/>
              <a:gd name="textAreaRight" fmla="*/ 177840 w 1778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" descr="Rectangle: Click to edit Master text styles&#13;&#10;Second level&#13;&#10;Third level&#13;&#10;Fourth level&#13;&#10;Fifth level"/>
          <p:cNvPicPr/>
          <p:nvPr/>
        </p:nvPicPr>
        <p:blipFill>
          <a:blip r:embed="rId7"/>
          <a:stretch/>
        </p:blipFill>
        <p:spPr>
          <a:xfrm>
            <a:off x="5508720" y="476280"/>
            <a:ext cx="3095640" cy="230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378-079B-4F89-A42F-247DB760F87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" action="ppaction://hlinkshowjump?jump=lastslide"/>
          </p:cNvPr>
          <p:cNvSpPr/>
          <p:nvPr/>
        </p:nvSpPr>
        <p:spPr>
          <a:xfrm>
            <a:off x="7543800" y="5335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533520" y="57913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6769080" y="5613480"/>
            <a:ext cx="1523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2806560" y="6184800"/>
            <a:ext cx="360360" cy="32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>
            <a:hlinkClick r:id="rId4" action="ppaction://hlinksldjump"/>
          </p:cNvPr>
          <p:cNvSpPr/>
          <p:nvPr/>
        </p:nvSpPr>
        <p:spPr>
          <a:xfrm>
            <a:off x="4737240" y="6184800"/>
            <a:ext cx="360360" cy="32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382-3C8A-4207-935A-3F4037CDCBF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grazione con Lepi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067280" y="3416400"/>
            <a:ext cx="4946400" cy="34416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4392720" cy="30560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127480" y="1209600"/>
            <a:ext cx="340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pida-Rete: veicolo di integrazione per la PA ma anche per i progetti della P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4221000"/>
            <a:ext cx="340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pida-TV: veicolo di integrazione con il cittadino, utilizzando Lepida-Rete per il trasporto e la fruizione di dati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94D-E00B-4B2B-A81F-F17E288FA2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T-Government: obiettivi e approcci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Piano Telematico Regionale 2004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erogare servizi al cittadino con un canale complementare e non sostitutivo; accrescere nuove funzioni: education, learning,…; convergenza dei mezzi; direzioni: servizi informativi, servizi interattivi, prodotti audiovisiv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servizi inseriti sono selezionati sulla base della frequenza di uso, della portabilità, dell’integrabilità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iretto verso chi non ha accesso ad 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eccanismo per aumentare la fruibilità dei contenu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istema di verifica e restyling di servizi con limitata immediatezza di uso, considerando i vincoli tecnologici imposti dalla DT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17D-6FB4-41E9-8E91-9FFCA0A49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44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proget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arola chiave del progetto è l’integrazion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ra diversi enti locali, che insistono sullo stesso territorio (Regione, Province e Comuni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ra diversi serviz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ra diversi centri servizio e broadcaste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l progetto è diviso in due ambiti, con utenti e territori di riferimento diversi: VISITARE L’EMILIA-ROMAGNA, con utenti target su tutto il territorio nazionale; VIVERE L’EMILIA-ROMAGNA, con utenti residenti su tutto il territorio nazionale e specializzazione tematica su aree locali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lassificato primo nel 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bando CNIPA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con 530K€ di cofinanziamento, impegno di circa 350K€ della RER, durata 10 mes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ECB-2135-491B-B831-F77B56CB58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644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art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Enti locali: </a:t>
            </a: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Regione Emilia-Romagn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, Comune di Bologna; Comune di Modena; Provincia di Bologna; Provincia di Ferrara; Provincia di Parma (+ 6 enti riusator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entri Servizio: E.D.A., Telespaz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Broadcaster: RAI, Italia7Gold, Telesant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Servizi specifici: CUP2000; CINE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113-3623-49E6-ACE5-F1279D4AC7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0928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servizi offer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SITARE l’Emilia-Romagn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l Cartellone, informazioni sintetiche su tutti gli eventi culturali in Emilia-Romag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Previsioni meteo anche specialistiche (precipitazioni, nuvolosità, mare, ven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formazioni aggiornate sulla percorribilità delle strade e lavori in cors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VERE l’Emilia-Romagn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formazioni che descrivono le strutture ed i servizi scolastici e le relative modalità di access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Guida on-line al non profit, una banca dati (qualitativi e quantitativi) sull'associazionismo e sul volontariato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formazioni sui servizi erogati dalle Associazioni di Volontaria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formanziani, una banca dati completa sulle prestazioni e servizi offerti agli anziani da enti pubblici, privati e non-profit ed è particolarmente adatto alla piattaforma Digitale Terrestre poiché si rivolge ad un target che generalmente non ha Internet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Verifica on-line dello stato di evasione della propria cartella clinica,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formazioni di primo livello relative a servizi e prestazioni sanitarie e socio-sanitarie erogate nella Regione Emilia-Romag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530-9FF2-4A75-9D84-8C18962E4F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 filie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1644480" y="1584360"/>
            <a:ext cx="5783400" cy="45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23D-D325-4854-946F-1D1604104B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 tecnologi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uizione di servizi già presenti in Internet con interfaccia nativa DT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avigazione su siti we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generici della PA adattati automaticamente per essere fruibili su DTT con meccanismi di mutuati dalla multicanali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rogazione di contenuti audio/vide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4/7 nella filiera vivere l’Emilia-Romagna: juke-box di palinsento e digitalizzazione beni multimedia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ccanismi di autenticazio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basati su vari paradigmi: logine password, CE, C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80B-C345-4527-8598-D5AA9EFABA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8084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’utenza target del proget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versi servizi hanno target divers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uristi e pubblico generalista per i servizi di “Visitare l’Emilia-Romagn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er “Vivere in Emilia-Romagn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nzian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tenti dei servizi social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Famiglie con bambini in età scol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ubblico generalis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monitoraggio dell’uso dei servizi viene effettuato tramite rilevazione delle navigazioni effettuate, sondaggi on-air e telefonici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campione monitorato è di circa 700 ut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066-F308-47FF-8098-A193DC1B3F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perimentazione DT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Integrazion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audio/video e supertelevideo, non solo dati e non solo video; Juke-box audio/video programmabile da casa dall’ut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Usabilità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programmazione dei tasti del telecomando in base al tipo di utente [profilo]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ccessibilità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programmazione della navigazione in base al tipo si serviz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Monitoraggio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analisi dell’utilità e penetrazione del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Convergenza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contenuti diversi verso una sola interfaccia vincolante; dal web al televisore, per tornare al web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Tecnologi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canali di ritor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utenticazione e Sicurezza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transazioni sicu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Pluralità tecnologich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presenza di più centri servizi [3] e più broadcaster [3]; meccanismi cooperativi di interfaccia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6AD-DAA6-4F28-A702-8ABB0D1EB6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anluca Mazzini</cp:lastModifiedBy>
  <dcterms:modified xsi:type="dcterms:W3CDTF">2005-06-09T07:37:23Z</dcterms:modified>
  <cp:revision>51</cp:revision>
  <dc:subject/>
  <dc:title>PowerPoint Presentation</dc:title>
</cp:coreProperties>
</file>