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D52F-4112-4398-82A5-783D82672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0C7F-369E-4694-932C-8F9D68ECA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DA1F-4385-41BB-A3B9-502E8DC29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8E6F-C83B-4A55-9FB0-4462185DAD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F14C-B620-4ADC-A015-C0782263A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FA93-38D3-41C9-A0AB-975041D3E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4E6A-031A-4190-A56D-3432A7811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0F8C-92B6-48C2-B7FC-C0993D5DA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1186-71AE-4CC1-8E0F-97237FAAF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9F6A-127F-4985-A921-8D9CA86F5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F6B2-F4E9-4C98-8B40-35C4F19E8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271D-29D6-4492-A0B5-2DAE066A0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orzione%20di%20poliedra%20grigio%2010%25" descr=""/>
          <p:cNvPicPr/>
          <p:nvPr/>
        </p:nvPicPr>
        <p:blipFill>
          <a:blip r:embed="rId2"/>
          <a:stretch/>
        </p:blipFill>
        <p:spPr>
          <a:xfrm>
            <a:off x="0" y="3409920"/>
            <a:ext cx="4267080" cy="3448080"/>
          </a:xfrm>
          <a:prstGeom prst="rect">
            <a:avLst/>
          </a:prstGeom>
          <a:ln w="0">
            <a:noFill/>
          </a:ln>
        </p:spPr>
      </p:pic>
      <p:pic>
        <p:nvPicPr>
          <p:cNvPr id="1" name="logo%20fondazione%20orizzontale" descr=""/>
          <p:cNvPicPr/>
          <p:nvPr/>
        </p:nvPicPr>
        <p:blipFill>
          <a:blip r:embed="rId3"/>
          <a:stretch/>
        </p:blipFill>
        <p:spPr>
          <a:xfrm>
            <a:off x="914400" y="647640"/>
            <a:ext cx="1638360" cy="5526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914400" y="6095880"/>
            <a:ext cx="8229600" cy="36360"/>
            <a:chOff x="914400" y="6095880"/>
            <a:chExt cx="8229600" cy="36360"/>
          </a:xfrm>
        </p:grpSpPr>
        <p:sp>
          <p:nvSpPr>
            <p:cNvPr id="3" name=""/>
            <p:cNvSpPr/>
            <p:nvPr/>
          </p:nvSpPr>
          <p:spPr>
            <a:xfrm flipH="1">
              <a:off x="914400" y="6095880"/>
              <a:ext cx="8229600" cy="0"/>
            </a:xfrm>
            <a:prstGeom prst="line">
              <a:avLst/>
            </a:prstGeom>
            <a:ln w="25560">
              <a:solidFill>
                <a:srgbClr val="999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914400" y="6132240"/>
              <a:ext cx="8229600" cy="0"/>
            </a:xfrm>
            <a:prstGeom prst="line">
              <a:avLst/>
            </a:prstGeom>
            <a:ln w="12600">
              <a:solidFill>
                <a:srgbClr val="999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C55F-92DB-4CE4-A4D6-E0C322D4F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fondazione%20orizzontale" descr=""/>
          <p:cNvPicPr/>
          <p:nvPr/>
        </p:nvPicPr>
        <p:blipFill>
          <a:blip r:embed="rId1"/>
          <a:stretch/>
        </p:blipFill>
        <p:spPr>
          <a:xfrm>
            <a:off x="2820960" y="2622600"/>
            <a:ext cx="3097080" cy="104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29600" y="4264200"/>
            <a:ext cx="340200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imes New Roman"/>
              </a:rPr>
              <a:t>Lucca, 10 giugno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baseline="30000">
                <a:solidFill>
                  <a:srgbClr val="504f53"/>
                </a:solidFill>
                <a:latin typeface="Georgia"/>
                <a:ea typeface="Times New Roman"/>
              </a:rPr>
              <a:t>Forum Europeo sulla Televisione Digitale Terrestre</a:t>
            </a: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</a:rPr>
              <a:t>Giuseppe Burschtein</a:t>
            </a:r>
            <a:r>
              <a:rPr b="0" lang="it-IT" sz="1800" spc="-1" strike="noStrike">
                <a:solidFill>
                  <a:srgbClr val="504f53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</a:rPr>
              <a:t>VicePresidente Fondazione Sistema Tosc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1946160"/>
            <a:ext cx="5514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La missione della Fonda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61144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La Fondazione Sistema Toscana nasce per comunicare i valori e sostenere la competitività di uno dei territori più evocati e famosi del mo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Nasce per </a:t>
            </a:r>
            <a:r>
              <a:rPr b="0" i="1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fare sistema</a:t>
            </a: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Sistema rappresentativo del territorio toscano, sistema culturale economico e sociale, sistema di informazione e conoscenza che accresce la partecipazione democratica e riduce il </a:t>
            </a:r>
            <a:r>
              <a:rPr b="0" i="1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digital divide</a:t>
            </a: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 </a:t>
            </a: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n altre parole, un sistema integrato di comunicazione multimediale in grado di tutelare e promuovere le specificità, i punti di forza e di attrazione che distinguono l’identità e l’immagine della Tosc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5520" y="2894040"/>
            <a:ext cx="36482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35520" y="2894040"/>
            <a:ext cx="3441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1946160"/>
            <a:ext cx="5514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I soci fondator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261144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Regione Toscana e Monte dei Paschi di Siena sono soci, ognuno per il 50%, della Fondazione partecipativa  “Sistema Toscana”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Regione Toscana e Monte dei Paschi di Siena hanno costituito la Fondazione Sistema Toscana, assegnandole la missione di realizzare un “Sistema Regionale Multimediale Integrato”.</a:t>
            </a:r>
            <a:br>
              <a:rPr sz="2000"/>
            </a:b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l riconoscimento della personalità giuridica della Fondazione risale al 28 Dicembre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35520" y="2894040"/>
            <a:ext cx="36482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35520" y="2894040"/>
            <a:ext cx="3441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1539720"/>
            <a:ext cx="5514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Gli obiettiv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1760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l primo scopo della  Fondazione Sistema Toscana è quello di realizzare un “Sistema Regionale Multimediale” a partire dalla costruzione del nuovo Portale Internet della Tosc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Finalità e strumenti di attuazione: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tutelare e promuovere l’immagine e l’identità della Toscana, intesa come sintesi espressiva dei valori e delle peculiarità del patrimonio culturale, economico e sociale del territorio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migliorare la competitività del sistema regionale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favorire lo sviluppo della società dell’informazione e della conoscenza, contribuendo alla riduzione del digital divide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costruire il Portale come piattaforma regionale di comunicazione al servizio di cittadini, imprese, istituzioni e associazioni, per semplificare e velocizzare l’accesso alle informazioni ed ai servizi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progettare e gestire servizi innovativi in linea con l’evoluzione dei bisogni dei cittadini e degli utenti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sostenere l’azione della Regione e delle istituzioni locali per l’innovazione della pubblica amministrazione e per la diffusione dei programmi regionali di e-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35520" y="2728800"/>
            <a:ext cx="364824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35520" y="2728800"/>
            <a:ext cx="344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1946160"/>
            <a:ext cx="5514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L’identit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61144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La Polyhedra di Leonardo è la sintesi espressiva dei valori, della missione e dell’identità della Fondazione Sistema Toscan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La Polyhedra rappresenta: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l’ingegno toscano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connessione ed interrelazione di sistema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policentricità, versatilità e molteplicità delle competenze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innovazione, ricerca, sperimentazione</a:t>
            </a:r>
            <a:br>
              <a:rPr sz="2000"/>
            </a:br>
            <a:br>
              <a:rPr sz="2000"/>
            </a:br>
            <a:r>
              <a:rPr b="0" lang="it-IT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solidità ed aper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35520" y="2894040"/>
            <a:ext cx="36482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35520" y="2894040"/>
            <a:ext cx="3441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374840"/>
            <a:ext cx="5514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Attività e progett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9240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La Fondazione Sistema Toscana, per realizzare le finalità della propria missione, contribuisce alla diffusione delle opportunità offerte dalla società della conoscenza, oltre a comunicare, tutelare e promuovere, in campo nazionale ed internazionale, l’identità toscana e i suoi valori distintiv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Le attività della Fondazione Sistema Toscana si articolano nelle seguenti aree operative:</a:t>
            </a:r>
            <a:br>
              <a:rPr sz="1800"/>
            </a:b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sviluppo di un sistema multimediale caratterizzato dalla capacità di pensare, costruire, aggregare e distribuire contenuti mediante un’offerta multicanale (internet, tv satellitare e tv digitale terrestre, radio, dispositivi mobili) massimizzando il cross-referencing tra i canali stessi, secondo un modello operativo di ispirazione imprenditoriale</a:t>
            </a:r>
            <a:br>
              <a:rPr sz="1800"/>
            </a:b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 sostegno al sistema dell’informazione regionale operando nel settore radiotelevisivo attraverso la produzione e la diffusione di contenuti multimediali</a:t>
            </a:r>
            <a:br>
              <a:rPr sz="1800"/>
            </a:b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valorizzazione del profilo economico e imprenditoriale della Toscana, della sua notorietà e del suo prestigio internazionale, puntando sulla sinergia tra territorio, imprese e dimensione istituzionale</a:t>
            </a:r>
            <a:br>
              <a:rPr sz="1800"/>
            </a:b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progetti di ricerca, studi di fattibilità, iniziative di formazione ed innovazione tecnologica</a:t>
            </a:r>
            <a:br>
              <a:rPr sz="1800"/>
            </a:b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 patrocinio e promozione di eventi, convegni e manifestazioni nel campo del marketing territoriale e della comunicazione multimed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35520" y="2894040"/>
            <a:ext cx="36482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35520" y="2894040"/>
            <a:ext cx="3441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946160"/>
            <a:ext cx="5514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Il Portale della Tosc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61144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l Portale che stiamo costruendo si propone come la “porta d'ingresso” logica  per accedere a tutte le informazioni rilevanti per chi </a:t>
            </a:r>
            <a:r>
              <a:rPr b="0" i="1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vive in Toscana</a:t>
            </a: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 e per chi vuole </a:t>
            </a:r>
            <a:r>
              <a:rPr b="0" i="1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vivere la Toscana</a:t>
            </a: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Ciascuna area tematica viene definita attraverso strumenti di guida e conoscenza in grado di assicurare rapidamente un efficace livello di approfondimento. </a:t>
            </a:r>
            <a:br>
              <a:rPr sz="2000"/>
            </a:br>
            <a:br>
              <a:rPr sz="2000"/>
            </a:b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l Portale della Toscana è strumento per:</a:t>
            </a:r>
            <a:br>
              <a:rPr sz="2000"/>
            </a:br>
            <a:br>
              <a:rPr sz="2000"/>
            </a:b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censire, dare visibilità e valorizzare tutte le realtà esistenti</a:t>
            </a:r>
            <a:br>
              <a:rPr sz="2000"/>
            </a:br>
            <a:br>
              <a:rPr sz="2000"/>
            </a:b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integrare, fare sistema e offrire servizi a valore aggiunto</a:t>
            </a:r>
            <a:br>
              <a:rPr sz="2000"/>
            </a:br>
            <a:br>
              <a:rPr sz="2000"/>
            </a:b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sviluppare opportunità di business e favorire le transazioni on line</a:t>
            </a:r>
            <a:br>
              <a:rPr sz="2000"/>
            </a:br>
            <a:br>
              <a:rPr sz="2000"/>
            </a:br>
            <a:r>
              <a:rPr b="0" lang="en-US" sz="20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l Portale si configura come un sistema editoriale coordinato che costituisce un grande edificio pubblico della Toscana in rete, una fabbrica “aperta”, un motore di relazioni e di scambi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35520" y="2894040"/>
            <a:ext cx="36482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35520" y="2894040"/>
            <a:ext cx="3441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387440"/>
            <a:ext cx="5514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30000">
                <a:solidFill>
                  <a:srgbClr val="504f53"/>
                </a:solidFill>
                <a:latin typeface="Georgia"/>
              </a:rPr>
              <a:t>Soci partecipant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065320"/>
            <a:ext cx="736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</a:rPr>
              <a:t>Per la realizzazione delle proprie finalità, la Fondazione Sistema Toscana ricerca il supporto e si apre alla partecipazione di enti e/o persone giuridiche, pubbliche e private. </a:t>
            </a: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La Fondazione Sistema Toscana individua come potenziali soci partecipanti: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Provincie, Comuni e Comunità Montane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Università, Scuole ed Enti di Ricerca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Sistema delle Camere di Commercio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Organizzazioni imprenditoriali, professionali e sindacali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Imprese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Associazioni e Rete del volontariato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Agenzie ed Enti di emanazione regionale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Aziende di Pubblica Utilità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Consorzi di Promozione e Tut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Opportunità e vantaggi: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 amplificare la visibilità delle iniziative autonome dei Soci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individuare  possibili aree di collaborazione con i Soci partecipanti  integrando contenuti e sviluppando servizi a valore aggiunto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• identificare iniziative da promuovere tramite la piattaforma multimediale (contenuti e servizi  da diffondere sul Portale e su altri canal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 Soci Partecipanti che condividono il comune interesse e i principi di pubblico servizio che ispirano la missione della Fondazione, potranno sottoscrivere l’adesione attraverso conferimenti finanziari, quote annuali di iscrizione, progettualità, data base o servizi a valore aggiunto.  </a:t>
            </a:r>
            <a:br>
              <a:rPr sz="1800"/>
            </a:br>
            <a:r>
              <a:rPr b="0" lang="it-IT" sz="1800" spc="-1" strike="noStrike" baseline="30000">
                <a:solidFill>
                  <a:srgbClr val="504f53"/>
                </a:solidFill>
                <a:latin typeface="Georgia"/>
                <a:ea typeface="Tahoma"/>
              </a:rPr>
              <a:t>I Soci Partecipanti compongono l’Assemblea di Partecip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35520" y="2894040"/>
            <a:ext cx="36482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35520" y="2894040"/>
            <a:ext cx="3441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35:45Z</dcterms:created>
  <dc:creator>VP/GB</dc:creator>
  <dc:description/>
  <dc:language>en-US</dc:language>
  <cp:lastModifiedBy>g b</cp:lastModifiedBy>
  <dcterms:modified xsi:type="dcterms:W3CDTF">2005-06-09T08:38:26Z</dcterms:modified>
  <cp:revision>27</cp:revision>
  <dc:subject/>
  <dc:title>Presentazione di PowerPoint</dc:title>
</cp:coreProperties>
</file>