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4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23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1ea5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046D85-12CD-4A07-A8BE-CE02AAE9F9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709560" y="741240"/>
            <a:ext cx="5381640" cy="3726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uelle Analysen zeig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utsche Haushalte können im Schnit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nder empfangen, doch sie nutzen nu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av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% ihres TV-Konsums entfällt auf nu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n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V-Grundbedürfnisse werden mit wenigen gesetzten Sendermarken befriedi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 Punkt 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meter: Anzahl der Kanäle, Interaktivität, Mobilität, Kosten und ihre Aufteilung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 Punkt 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meter: Anzahl der Kanäle, Interaktivität, Mobilität, Kosten und ihre Aufteilung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097490-282C-4D40-B5FF-18D53DD602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861840"/>
            <a:ext cx="5025960" cy="34801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95320" y="4722840"/>
            <a:ext cx="500688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rsonalisierung heißt immer, dass persönliche Daten des Benutzers gesammelt werden. Über die Registrierungs- und die Verhaltensdaten wird u.a. von TiVo ein Benutzerprofil erstellt, das täglich einmal an die zentrale Datenbank übermittelt wird. Weiterführung der klassischen TV-Spot Werbung, d.h. Werbemöglichkeiten nehmen zu [klassische Vorteile von Direct Marketing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Bedingung: Technische Plattform ist notwendig [gemeinsame Schnittstelle zur Ansprache], Rückkanal [interaktives Fernsehe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ie bereits über DSL bzw. Kabel vorhandene Rückkanalfähigkeit mit den Funktionalitäten der DVRs ergeben sich völlig neue Möglichkeiten der Werbung und Programmgestal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VRs ermöglichen eine verstärkte Personalisierung &amp; Individualisierung, d.h. zielgenaueres Werben bis zu „Direct Marketing“ Aktivitäten [persönliche Ansprache, geringe Streuverluste] werden ermögli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lligente DVRs ermöglichen über Push Dienste eine VoD ähnliche Flexibilität in einem Broadcast-Netz zu install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den DVR könnten bisher uninteressante Sendezeiten [Nachtschiene] zum Ausstrahlen von Special lnterest Programmen/Werbung genutzt werden - Werbespots/-blöcke können gezielt auf die Festplatte übertragen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 den DVR und einen Rückkanal können, unter Berücksichtigung der rechtlichen Rahmenbedingungen, sowohl das Nutzungs- als auch das Konsumentenverhalten der Rezipienten analysiert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bau von Kundendaten und Rezeptionsverhalten [wie bereits schon Ansatzweise bei TiVo] als Instrument für Marktforschungszwecke [bsp. USA AD-ID/RFID-Technik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c3d9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Messbarkeit und somit auch die Berechenbarkeit der Werbung wird effizienter und effekt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 Punkt 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meter: Anzahl der Kanäle, Interaktivität, Mobilität, Kosten und ihre Aufteilung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A661-7C7D-43E0-97F9-08B020767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294552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9831-C38B-41C5-AE81-3E1FDDA0B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168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FF17-4C30-417B-8AB5-930C1827B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196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852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196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852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40991-0737-4CA7-8A90-140F9C595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0360" y="546120"/>
            <a:ext cx="88297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68F0-41E6-4977-8733-7B04F9E65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8168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00" y="294552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8168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4196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28520" y="205740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40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4196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28520" y="2945520"/>
            <a:ext cx="28440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C926-7AF8-499D-AD2E-8A75910DA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72AD-0208-4C28-95CD-735A68826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0714-B5B2-4C56-8BFE-F342B58B0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0360" y="546120"/>
            <a:ext cx="882972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AC74-0085-463E-BA31-923161560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3319-DDBA-43E2-B176-3AD3385FD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1680" y="294552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A501-F598-4BE1-90DD-1764F68AF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1680" y="2057400"/>
            <a:ext cx="431028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2945520"/>
            <a:ext cx="8832600" cy="8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0657-C722-4C9C-9B69-A72682CDF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958000"/>
            <a:ext cx="9906120" cy="90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1ea5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50720" y="6280200"/>
            <a:ext cx="410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c4c9c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4c9c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5037120" y="6284880"/>
            <a:ext cx="182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c4c9c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D48B-5567-438D-AC19-598674227BF6}" type="slidenum">
              <a:rPr b="0" lang="de-DE" sz="1000" spc="-1" strike="noStrike">
                <a:solidFill>
                  <a:srgbClr val="c4c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79640"/>
            <a:ext cx="9906120" cy="0"/>
          </a:xfrm>
          <a:prstGeom prst="line">
            <a:avLst/>
          </a:prstGeom>
          <a:ln w="6480">
            <a:solidFill>
              <a:srgbClr val="181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9906120" cy="0"/>
          </a:xfrm>
          <a:prstGeom prst="line">
            <a:avLst/>
          </a:prstGeom>
          <a:ln w="6480">
            <a:solidFill>
              <a:srgbClr val="181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5400" y="2057400"/>
            <a:ext cx="8832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432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76920" indent="-93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59880" indent="-93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4284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22580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22580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225800" indent="-9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7480" y="2997000"/>
            <a:ext cx="8381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1ea5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98920"/>
            <a:ext cx="9906120" cy="0"/>
          </a:xfrm>
          <a:prstGeom prst="line">
            <a:avLst/>
          </a:prstGeom>
          <a:ln w="6480">
            <a:solidFill>
              <a:srgbClr val="181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98920"/>
            <a:ext cx="9906120" cy="0"/>
          </a:xfrm>
          <a:prstGeom prst="line">
            <a:avLst/>
          </a:prstGeom>
          <a:ln w="6480">
            <a:solidFill>
              <a:srgbClr val="181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38200" y="179280"/>
            <a:ext cx="1204920" cy="11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070920" y="1006560"/>
            <a:ext cx="660600" cy="560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450720" y="6280200"/>
            <a:ext cx="410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hyperlink" Target="http://images.google.de/imgres?imgurl=www.wiretek.com.cn/images/12.gif&amp;imgrefurl=http://www.wiretek.com.cn/scart.htm&amp;h=194&amp;w=250&amp;prev=/images%3Fq%3DSCART%2Badapter%26start%3D20%26svnum%3D10%26hl%3Dde%26lr%3D%26ie%3DUTF-8%26oe%3DUTF-8%26sa%3DN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7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070920" y="1006560"/>
            <a:ext cx="660600" cy="56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438200" y="179280"/>
            <a:ext cx="1208160" cy="11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2878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4c9cf"/>
                </a:solidFill>
                <a:latin typeface="Arial"/>
              </a:rPr>
              <a:t>La Germania e il digi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698920"/>
            <a:ext cx="9906120" cy="0"/>
          </a:xfrm>
          <a:prstGeom prst="line">
            <a:avLst/>
          </a:prstGeom>
          <a:ln w="6480">
            <a:solidFill>
              <a:srgbClr val="c4c9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98920"/>
            <a:ext cx="9906120" cy="0"/>
          </a:xfrm>
          <a:prstGeom prst="line">
            <a:avLst/>
          </a:prstGeom>
          <a:ln w="6480">
            <a:solidFill>
              <a:srgbClr val="c4c9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6560" y="6247800"/>
            <a:ext cx="789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Lucca, 10. giugno 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DA92-4390-4336-9F94-62CE2C6457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37120" y="6270480"/>
            <a:ext cx="18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AA22-28A9-4C7C-B621-E7EB9FE1A5EB}" type="slidenum">
              <a:rPr b="0" lang="de-DE" sz="1000" spc="-1" strike="noStrike">
                <a:solidFill>
                  <a:srgbClr val="c4c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c9cf"/>
                </a:solidFill>
                <a:latin typeface="Arial"/>
              </a:rPr>
              <a:t>Basis: Alle Fernsehhaushalte Deutschland [D+EU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c9cf"/>
                </a:solidFill>
                <a:latin typeface="Arial"/>
              </a:rPr>
              <a:t>Quelle: AGF/GfK Fernsehforschung / pc#tv aktuell und SPSS / Audience Research Munich [TH, eigene Berechnungen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38080" y="2679840"/>
            <a:ext cx="5220000" cy="2730240"/>
            <a:chOff x="838080" y="2679840"/>
            <a:chExt cx="5220000" cy="2730240"/>
          </a:xfrm>
        </p:grpSpPr>
        <p:sp>
          <p:nvSpPr>
            <p:cNvPr id="185" name=""/>
            <p:cNvSpPr/>
            <p:nvPr/>
          </p:nvSpPr>
          <p:spPr>
            <a:xfrm>
              <a:off x="838080" y="2679840"/>
              <a:ext cx="2730600" cy="2730240"/>
            </a:xfrm>
            <a:prstGeom prst="ellipse">
              <a:avLst/>
            </a:prstGeom>
            <a:noFill/>
            <a:ln w="28440">
              <a:solidFill>
                <a:srgbClr val="44c8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3040" y="2892600"/>
              <a:ext cx="15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ef"/>
                  </a:solidFill>
                  <a:latin typeface="Arial"/>
                </a:rPr>
                <a:t>44</a:t>
              </a:r>
              <a:r>
                <a:rPr b="0" lang="de-DE" sz="1600" spc="-1" strike="noStrike">
                  <a:solidFill>
                    <a:srgbClr val="00aeef"/>
                  </a:solidFill>
                  <a:latin typeface="Arial"/>
                </a:rPr>
                <a:t> reti ricev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260520" y="3149640"/>
              <a:ext cx="571320" cy="0"/>
            </a:xfrm>
            <a:prstGeom prst="line">
              <a:avLst/>
            </a:prstGeom>
            <a:ln w="9360">
              <a:solidFill>
                <a:srgbClr val="44c8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209680" y="3281400"/>
              <a:ext cx="2846160" cy="1390680"/>
              <a:chOff x="2209680" y="3281400"/>
              <a:chExt cx="2846160" cy="1390680"/>
            </a:xfrm>
          </p:grpSpPr>
          <p:sp>
            <p:nvSpPr>
              <p:cNvPr id="189" name=""/>
              <p:cNvSpPr/>
              <p:nvPr/>
            </p:nvSpPr>
            <p:spPr>
              <a:xfrm>
                <a:off x="2209680" y="3417840"/>
                <a:ext cx="1254240" cy="1254240"/>
              </a:xfrm>
              <a:prstGeom prst="ellipse">
                <a:avLst/>
              </a:prstGeom>
              <a:noFill/>
              <a:ln w="28440">
                <a:solidFill>
                  <a:srgbClr val="f792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00520" y="3281400"/>
                <a:ext cx="1255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79233"/>
                    </a:solidFill>
                    <a:latin typeface="Arial"/>
                  </a:rPr>
                  <a:t>18</a:t>
                </a:r>
                <a:r>
                  <a:rPr b="0" lang="de-DE" sz="1600" spc="-1" strike="noStrike">
                    <a:solidFill>
                      <a:srgbClr val="f79233"/>
                    </a:solidFill>
                    <a:latin typeface="Arial"/>
                  </a:rPr>
                  <a:t> utilizz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3165480" y="3511440"/>
                <a:ext cx="666720" cy="0"/>
              </a:xfrm>
              <a:prstGeom prst="line">
                <a:avLst/>
              </a:prstGeom>
              <a:ln w="9360">
                <a:solidFill>
                  <a:srgbClr val="f792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978280" y="3841920"/>
              <a:ext cx="3079800" cy="702360"/>
              <a:chOff x="2978280" y="3841920"/>
              <a:chExt cx="3079800" cy="702360"/>
            </a:xfrm>
          </p:grpSpPr>
          <p:sp>
            <p:nvSpPr>
              <p:cNvPr id="193" name=""/>
              <p:cNvSpPr/>
              <p:nvPr/>
            </p:nvSpPr>
            <p:spPr>
              <a:xfrm>
                <a:off x="3795480" y="3841920"/>
                <a:ext cx="22626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b48c"/>
                    </a:solidFill>
                    <a:latin typeface="Arial"/>
                  </a:rPr>
                  <a:t>5</a:t>
                </a:r>
                <a:r>
                  <a:rPr b="0" lang="de-DE" sz="1600" spc="-1" strike="noStrike">
                    <a:solidFill>
                      <a:srgbClr val="00b48c"/>
                    </a:solidFill>
                    <a:latin typeface="Arial"/>
                  </a:rPr>
                  <a:t> nel Relevant 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b48c"/>
                    </a:solidFill>
                    <a:latin typeface="Arial"/>
                  </a:rPr>
                  <a:t>[80% del consumo televisivo 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b48c"/>
                    </a:solidFill>
                    <a:latin typeface="Arial"/>
                  </a:rPr>
                  <a:t>Concentra su 5 reti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78280" y="3902040"/>
                <a:ext cx="285480" cy="285840"/>
              </a:xfrm>
              <a:prstGeom prst="ellipse">
                <a:avLst/>
              </a:prstGeom>
              <a:noFill/>
              <a:ln w="28440">
                <a:solidFill>
                  <a:srgbClr val="00b4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3260520" y="4071960"/>
                <a:ext cx="571320" cy="0"/>
              </a:xfrm>
              <a:prstGeom prst="line">
                <a:avLst/>
              </a:prstGeom>
              <a:ln w="9360">
                <a:solidFill>
                  <a:srgbClr val="00b4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mero di reti ricevute / viste / relevant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lori m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Rapporto reti ricevute / utilizzate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59D2-A325-433F-8F35-A8F9136B05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361800" y="1952640"/>
          <a:ext cx="869652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52640"/>
                    <a:ext cx="869652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57200" y="53341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 quadruplicazione dell‘offerta incrementa il numero di reti viste di 1,5 unit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Quelle: AGF/GfK Sonderanalyse | IP Deutschl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Basis: E14-49 Jahre, Panel D+EU, Nov 2004</a:t>
            </a:r>
            <a:br>
              <a:rPr sz="1200"/>
            </a:b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Kriterium für Sendernutzung: min. 5 Minuten konsekut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11320" y="2820960"/>
            <a:ext cx="963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50083"/>
                </a:solidFill>
                <a:latin typeface="Arial"/>
              </a:rPr>
              <a:t>Ø cavo-</a:t>
            </a:r>
            <a:br>
              <a:rPr sz="1400"/>
            </a:br>
            <a:r>
              <a:rPr b="0" lang="de-DE" sz="1400" spc="-1" strike="noStrike">
                <a:solidFill>
                  <a:srgbClr val="e50083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21000" y="3265560"/>
            <a:ext cx="144360" cy="772920"/>
          </a:xfrm>
          <a:prstGeom prst="downArrow">
            <a:avLst>
              <a:gd name="adj1" fmla="val 35713"/>
              <a:gd name="adj2" fmla="val 52029"/>
            </a:avLst>
          </a:prstGeom>
          <a:solidFill>
            <a:srgbClr val="e50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778120"/>
            <a:ext cx="704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50083"/>
                </a:solidFill>
                <a:latin typeface="Arial"/>
              </a:rPr>
              <a:t>Ø sat-</a:t>
            </a:r>
            <a:br>
              <a:rPr sz="1400"/>
            </a:br>
            <a:r>
              <a:rPr b="0" lang="de-DE" sz="1400" spc="-1" strike="noStrike">
                <a:solidFill>
                  <a:srgbClr val="e50083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7040" y="3265560"/>
            <a:ext cx="144360" cy="772920"/>
          </a:xfrm>
          <a:prstGeom prst="downArrow">
            <a:avLst>
              <a:gd name="adj1" fmla="val 35713"/>
              <a:gd name="adj2" fmla="val 52029"/>
            </a:avLst>
          </a:prstGeom>
          <a:solidFill>
            <a:srgbClr val="e500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Rapporto reti ricevute / consumate 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F-Pa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A8BC-99C9-4707-B252-98FC737B683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Montag-Sonntag, 3 bis 3 h; RTL, Sat.1, ProSieben, RTL II, VOX, Kabel 1; E14-49; Alle Ins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Quelle: AGF/GfK Fernsehforschung / pc#tv / | Alle Fernsehhaushalte [D+EU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22560"/>
          <a:ext cx="558648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22560"/>
                    <a:ext cx="55864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477720" y="5513400"/>
            <a:ext cx="725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42200" y="425124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ero emitt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4465800"/>
            <a:ext cx="420840" cy="264960"/>
          </a:xfrm>
          <a:prstGeom prst="leftArrow">
            <a:avLst>
              <a:gd name="adj1" fmla="val 50000"/>
              <a:gd name="adj2" fmla="val 39708"/>
            </a:avLst>
          </a:prstGeom>
          <a:solidFill>
            <a:srgbClr val="44c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scolto dei break pubblicitari delle 6 emittenti commerciali principali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ex, 1998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Pluralismo: segmentazione vs frammentazione 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5099-8C41-46BA-A5AD-5B368B4DFB4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80880" y="1905120"/>
          <a:ext cx="511488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51148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77720" y="5407200"/>
            <a:ext cx="677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Fonte: AGF/GfK Sonderanalyse | IP Deutschl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Basis: E14-49 Jahre, Panel D+EU, Nov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Pluralismo: segmentazione vs frammentazione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hare cumulata di RTL, Sat.1 und ProSieben in famiglie con elevato numero di canali ricev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4D0A-DD6E-44C4-93CD-567F1A11A7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0440" y="1760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035080"/>
            <a:ext cx="883296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3 intratten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1 notizie e document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1 bamb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8 fi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 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5 mu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9 tematici di nicchia [viaggi, shop, JobTV, Al Jazeera, ...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4 adul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5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Fonte: British Sky Broadcasting Group p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Annual Report and Accounts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10280" y="1905120"/>
            <a:ext cx="1838520" cy="2447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1828800" cy="12351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5335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  <a:ea typeface="Times New Roman"/>
              </a:rPr>
              <a:t>La monodimensionalitá del pluralisimo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l caso  BSkyB [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≈ 500 canal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2FD5-B86D-4EEB-8C44-19421928B84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61800" y="1647720"/>
          <a:ext cx="939168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647720"/>
                    <a:ext cx="939168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Fonte: Jupiter Research DTV Model 11/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Italienische Daten: Booz, Allen, Hamilto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510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14800" y="5105520"/>
            <a:ext cx="1217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tellite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rres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3440" y="510552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rres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82760" y="584280"/>
            <a:ext cx="850896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Grandi differenze in Europa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entrazione delle diverse piattaforme di distribuzione [200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360" y="5530680"/>
            <a:ext cx="5079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ori percen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989F-71B4-443E-8851-C0DB02062E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80880" y="2085840"/>
          <a:ext cx="872496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85840"/>
                    <a:ext cx="872496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Fonte: Jupiter Research DTV Model 11/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sky Präsentation EGTA, Februar 2005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*AGF / GfK Fernsehforschung Stand: 1.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miglie „digitali“ in Euro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alori percent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La Germania ostaggio del suo vantaggio?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C365-84A3-4477-A7D8-5790866440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19040" y="1905120"/>
          <a:ext cx="742968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905120"/>
                    <a:ext cx="742968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ex, 1.4.2001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1.4.2001 = Beginn der Erfassung durch den Techn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Basis: Haushalte mit mind. einem angeschlossenen Digital-Receiver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TV-HH gesamt 2005: 34,83 M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Quelle: AGF/GfK Fernsehpanel, pc#tv, Fernsehpanel D+E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Moderata crescita del digitale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24680" y="2209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,4 Millioni di famiglie digi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7DFC-BF09-41A2-ABCF-57183AEBE8D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note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c4c9cf"/>
                </a:solidFill>
                <a:latin typeface="Arial"/>
              </a:rPr>
              <a:t>Fonte: Mercer Diversification Core Team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c4c9cf"/>
                </a:solidFill>
                <a:latin typeface="Arial"/>
              </a:rPr>
              <a:t>1 DSL Access currently complementary to traditional TV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898640" y="3817800"/>
            <a:ext cx="863640" cy="1289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36960" y="2770200"/>
            <a:ext cx="1212840" cy="2336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 signal recep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e.g. Bosch, Telecolumbus, Primaco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42040" y="2770200"/>
            <a:ext cx="1212840" cy="2336760"/>
          </a:xfrm>
          <a:prstGeom prst="rect">
            <a:avLst/>
          </a:prstGeom>
          <a:solidFill>
            <a:srgbClr val="44c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46760" y="2770200"/>
            <a:ext cx="1212840" cy="2336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153280" y="2770200"/>
            <a:ext cx="1212840" cy="2336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59120" y="3817800"/>
            <a:ext cx="863640" cy="1289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4 op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5760" y="3094200"/>
            <a:ext cx="29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5760" y="4275000"/>
            <a:ext cx="29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54840" y="5129280"/>
            <a:ext cx="797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59920" y="5129280"/>
            <a:ext cx="7966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32080" y="2149560"/>
            <a:ext cx="31464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HH: 1.9 m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05640" y="2131560"/>
            <a:ext cx="15984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Digital HH: 1,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86440" y="2131560"/>
            <a:ext cx="1596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Digital HH: 3.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58040" y="2254320"/>
            <a:ext cx="10051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L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3640" y="1869120"/>
            <a:ext cx="3714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households Germany [in m]: 36,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75840" y="440388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5,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46320" y="4403880"/>
            <a:ext cx="392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8560" y="440388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3,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42040" y="4762440"/>
            <a:ext cx="1212840" cy="344520"/>
          </a:xfrm>
          <a:prstGeom prst="rect">
            <a:avLst/>
          </a:pr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</a:rPr>
              <a:t>Premiere: 1.2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63640" y="2770200"/>
            <a:ext cx="716040" cy="971640"/>
          </a:xfrm>
          <a:prstGeom prst="rect">
            <a:avLst/>
          </a:prstGeom>
          <a:solidFill>
            <a:srgbClr val="44c8f5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79680" y="2770200"/>
            <a:ext cx="715680" cy="971640"/>
          </a:xfrm>
          <a:prstGeom prst="rect">
            <a:avLst/>
          </a:prstGeom>
          <a:solidFill>
            <a:srgbClr val="44c8f5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00240" y="2770200"/>
            <a:ext cx="716040" cy="971640"/>
          </a:xfrm>
          <a:prstGeom prst="rect">
            <a:avLst/>
          </a:prstGeom>
          <a:solidFill>
            <a:srgbClr val="44c8f5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W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4560" y="2770200"/>
            <a:ext cx="715680" cy="971640"/>
          </a:xfrm>
          <a:prstGeom prst="rect">
            <a:avLst/>
          </a:prstGeom>
          <a:solidFill>
            <a:srgbClr val="44c8f5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70560" y="3354480"/>
            <a:ext cx="4780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9880" y="3354480"/>
            <a:ext cx="3924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4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78880" y="335448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1,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85200" y="335448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2,3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63640" y="3790800"/>
            <a:ext cx="961920" cy="1312560"/>
            <a:chOff x="863640" y="3790800"/>
            <a:chExt cx="961920" cy="1312560"/>
          </a:xfrm>
        </p:grpSpPr>
        <p:sp>
          <p:nvSpPr>
            <p:cNvPr id="278" name=""/>
            <p:cNvSpPr/>
            <p:nvPr/>
          </p:nvSpPr>
          <p:spPr>
            <a:xfrm>
              <a:off x="863640" y="3790800"/>
              <a:ext cx="241200" cy="1312560"/>
            </a:xfrm>
            <a:prstGeom prst="rect">
              <a:avLst/>
            </a:prstGeom>
            <a:solidFill>
              <a:srgbClr val="44c8f5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D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04840" y="3790800"/>
              <a:ext cx="239760" cy="1312560"/>
            </a:xfrm>
            <a:prstGeom prst="rect">
              <a:avLst/>
            </a:prstGeom>
            <a:solidFill>
              <a:srgbClr val="44c8f5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44600" y="3790800"/>
              <a:ext cx="241200" cy="1312560"/>
            </a:xfrm>
            <a:prstGeom prst="rect">
              <a:avLst/>
            </a:prstGeom>
            <a:solidFill>
              <a:srgbClr val="44c8f5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es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85800" y="3790800"/>
              <a:ext cx="239760" cy="1312560"/>
            </a:xfrm>
            <a:prstGeom prst="rect">
              <a:avLst/>
            </a:prstGeom>
            <a:solidFill>
              <a:srgbClr val="44c8f5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 rot="5400000">
            <a:off x="754560" y="436356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4.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1245240" y="436176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0,5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983160" y="436176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1,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476360" y="4361760"/>
            <a:ext cx="520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0,9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74800" y="4761000"/>
            <a:ext cx="2852640" cy="344520"/>
          </a:xfrm>
          <a:prstGeom prst="rect">
            <a:avLst/>
          </a:prstGeom>
          <a:solidFill>
            <a:srgbClr val="eaea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</a:rPr>
              <a:t>Premiere customers: 1.7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rot="5400000">
            <a:off x="2955960" y="486000"/>
            <a:ext cx="90360" cy="4251240"/>
          </a:xfrm>
          <a:custGeom>
            <a:avLst/>
            <a:gdLst>
              <a:gd name="textAreaLeft" fmla="*/ 0 w 90360"/>
              <a:gd name="textAreaRight" fmla="*/ 32760 w 90360"/>
              <a:gd name="textAreaTop" fmla="*/ 0 h 4251240"/>
              <a:gd name="textAreaBottom" fmla="*/ 4251600 h 425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rot="5400000">
            <a:off x="5898600" y="2009520"/>
            <a:ext cx="90360" cy="1204920"/>
          </a:xfrm>
          <a:custGeom>
            <a:avLst/>
            <a:gdLst>
              <a:gd name="textAreaLeft" fmla="*/ 0 w 90360"/>
              <a:gd name="textAreaRight" fmla="*/ 32760 w 90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rot="5400000">
            <a:off x="7311240" y="2009520"/>
            <a:ext cx="90360" cy="1204920"/>
          </a:xfrm>
          <a:custGeom>
            <a:avLst/>
            <a:gdLst>
              <a:gd name="textAreaLeft" fmla="*/ 0 w 90360"/>
              <a:gd name="textAreaRight" fmla="*/ 32760 w 90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rot="5400000">
            <a:off x="8709840" y="2009520"/>
            <a:ext cx="90360" cy="1204920"/>
          </a:xfrm>
          <a:custGeom>
            <a:avLst/>
            <a:gdLst>
              <a:gd name="textAreaLeft" fmla="*/ 0 w 90360"/>
              <a:gd name="textAreaRight" fmla="*/ 32760 w 903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 rot="16200000">
            <a:off x="2965320" y="3124080"/>
            <a:ext cx="76320" cy="4191120"/>
          </a:xfrm>
          <a:custGeom>
            <a:avLst/>
            <a:gdLst>
              <a:gd name="textAreaLeft" fmla="*/ 0 w 76320"/>
              <a:gd name="textAreaRight" fmla="*/ 27360 w 76320"/>
              <a:gd name="textAreaTop" fmla="*/ 360 h 4191120"/>
              <a:gd name="textAreaBottom" fmla="*/ 41918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 rot="16200000">
            <a:off x="5898240" y="46098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4560 h 1219320"/>
              <a:gd name="textAreaBottom" fmla="*/ 1184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2"/>
                  <a:pt x="10800" y="1963"/>
                </a:cubicBezTo>
                <a:lnTo>
                  <a:pt x="10800" y="8837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2"/>
                  <a:pt x="10800" y="12763"/>
                </a:cubicBezTo>
                <a:lnTo>
                  <a:pt x="10800" y="19637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09240" y="52578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 rot="16200000">
            <a:off x="7346880" y="461016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4560 h 1218960"/>
              <a:gd name="textAreaBottom" fmla="*/ 11844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2"/>
                  <a:pt x="10800" y="1963"/>
                </a:cubicBezTo>
                <a:lnTo>
                  <a:pt x="10800" y="8837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2"/>
                  <a:pt x="10800" y="12763"/>
                </a:cubicBezTo>
                <a:lnTo>
                  <a:pt x="10800" y="19637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 rot="16200000">
            <a:off x="8718480" y="461016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4560 h 1218960"/>
              <a:gd name="textAreaBottom" fmla="*/ 11844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2"/>
                  <a:pt x="10800" y="1963"/>
                </a:cubicBezTo>
                <a:lnTo>
                  <a:pt x="10800" y="8837"/>
                </a:lnTo>
                <a:cubicBezTo>
                  <a:pt x="10800" y="9819"/>
                  <a:pt x="16200" y="10800"/>
                  <a:pt x="21600" y="10800"/>
                </a:cubicBezTo>
                <a:cubicBezTo>
                  <a:pt x="16200" y="10800"/>
                  <a:pt x="10800" y="11782"/>
                  <a:pt x="10800" y="12763"/>
                </a:cubicBezTo>
                <a:lnTo>
                  <a:pt x="10800" y="19637"/>
                </a:lnTo>
                <a:cubicBezTo>
                  <a:pt x="10800" y="2061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40600" y="5257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12200" y="5257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0760" y="52578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2400" y="583920"/>
            <a:ext cx="800100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Distribuzione del segnale in Germania 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rot="5400000">
            <a:off x="2209680" y="198072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editá della separazione iniziale tra content provider e piattaforma distribu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43A5-A3FC-473E-8BE4-AE176EB5E3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0" t="14329" r="4115" b="0"/>
          <a:stretch/>
        </p:blipFill>
        <p:spPr>
          <a:xfrm>
            <a:off x="473040" y="1143000"/>
            <a:ext cx="3794040" cy="48006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Status quo: 30.5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Copertura DVB-T a macchia di leopardo  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2070000"/>
            <a:ext cx="36324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tribuzione terrestre &lt; 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witch off analogico concluso nei maggiori cen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-7 Multiplex [24-28 canali] per bacino d‘illumi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5F77-8A6F-4BEC-B270-3481BFD5AEE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</a:rPr>
              <a:t>TV digitale = pluralismo ed interattivitá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2640" y="2692440"/>
            <a:ext cx="1770120" cy="1633320"/>
          </a:xfrm>
          <a:prstGeom prst="ellipse">
            <a:avLst/>
          </a:prstGeom>
          <a:solidFill>
            <a:srgbClr val="509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TV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generali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240" y="1241280"/>
            <a:ext cx="230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e della scarsit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940 - 198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240" y="5257800"/>
            <a:ext cx="230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8280" y="1241280"/>
            <a:ext cx="230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e di mez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1980 - 199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86360" y="1241280"/>
            <a:ext cx="3114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e della disponibilit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dal 199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9720" y="5257800"/>
            <a:ext cx="230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07200" y="5257800"/>
            <a:ext cx="230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5040" y="2181240"/>
            <a:ext cx="1771560" cy="1633680"/>
          </a:xfrm>
          <a:prstGeom prst="ellipse">
            <a:avLst/>
          </a:prstGeom>
          <a:solidFill>
            <a:srgbClr val="509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5040" y="3133800"/>
            <a:ext cx="1771560" cy="16333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1480" y="5256360"/>
            <a:ext cx="7155000" cy="0"/>
          </a:xfrm>
          <a:prstGeom prst="line">
            <a:avLst/>
          </a:prstGeom>
          <a:ln w="28440">
            <a:solidFill>
              <a:srgbClr val="0000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0" y="4875120"/>
            <a:ext cx="133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9600" y="4875120"/>
            <a:ext cx="13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6924960" y="2532960"/>
            <a:ext cx="1630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stema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949800" y="3821040"/>
            <a:ext cx="158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73440" y="3519360"/>
            <a:ext cx="217476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pecial Inter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Free/Pay T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73600" y="2181240"/>
            <a:ext cx="1771920" cy="1633680"/>
          </a:xfrm>
          <a:prstGeom prst="ellipse">
            <a:avLst/>
          </a:prstGeom>
          <a:solidFill>
            <a:srgbClr val="509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73600" y="3133800"/>
            <a:ext cx="1771920" cy="16333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5120" y="3868560"/>
            <a:ext cx="23032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on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 reques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34160" y="3124080"/>
            <a:ext cx="1449360" cy="676440"/>
          </a:xfrm>
          <a:custGeom>
            <a:avLst/>
            <a:gdLst/>
            <a:ahLst/>
            <a:rect l="l" t="t" r="r" b="b"/>
            <a:pathLst>
              <a:path w="1527" h="784">
                <a:moveTo>
                  <a:pt x="0" y="399"/>
                </a:moveTo>
                <a:lnTo>
                  <a:pt x="31" y="353"/>
                </a:lnTo>
                <a:lnTo>
                  <a:pt x="68" y="307"/>
                </a:lnTo>
                <a:lnTo>
                  <a:pt x="113" y="260"/>
                </a:lnTo>
                <a:lnTo>
                  <a:pt x="165" y="214"/>
                </a:lnTo>
                <a:lnTo>
                  <a:pt x="223" y="171"/>
                </a:lnTo>
                <a:lnTo>
                  <a:pt x="288" y="130"/>
                </a:lnTo>
                <a:lnTo>
                  <a:pt x="359" y="94"/>
                </a:lnTo>
                <a:lnTo>
                  <a:pt x="435" y="62"/>
                </a:lnTo>
                <a:lnTo>
                  <a:pt x="516" y="35"/>
                </a:lnTo>
                <a:lnTo>
                  <a:pt x="604" y="16"/>
                </a:lnTo>
                <a:lnTo>
                  <a:pt x="695" y="4"/>
                </a:lnTo>
                <a:lnTo>
                  <a:pt x="790" y="0"/>
                </a:lnTo>
                <a:lnTo>
                  <a:pt x="876" y="8"/>
                </a:lnTo>
                <a:lnTo>
                  <a:pt x="959" y="21"/>
                </a:lnTo>
                <a:lnTo>
                  <a:pt x="1037" y="42"/>
                </a:lnTo>
                <a:lnTo>
                  <a:pt x="1110" y="67"/>
                </a:lnTo>
                <a:lnTo>
                  <a:pt x="1179" y="98"/>
                </a:lnTo>
                <a:lnTo>
                  <a:pt x="1242" y="133"/>
                </a:lnTo>
                <a:lnTo>
                  <a:pt x="1302" y="172"/>
                </a:lnTo>
                <a:lnTo>
                  <a:pt x="1357" y="213"/>
                </a:lnTo>
                <a:lnTo>
                  <a:pt x="1406" y="257"/>
                </a:lnTo>
                <a:lnTo>
                  <a:pt x="1451" y="302"/>
                </a:lnTo>
                <a:lnTo>
                  <a:pt x="1491" y="349"/>
                </a:lnTo>
                <a:lnTo>
                  <a:pt x="1527" y="394"/>
                </a:lnTo>
                <a:lnTo>
                  <a:pt x="1473" y="461"/>
                </a:lnTo>
                <a:lnTo>
                  <a:pt x="1417" y="522"/>
                </a:lnTo>
                <a:lnTo>
                  <a:pt x="1358" y="575"/>
                </a:lnTo>
                <a:lnTo>
                  <a:pt x="1297" y="621"/>
                </a:lnTo>
                <a:lnTo>
                  <a:pt x="1235" y="662"/>
                </a:lnTo>
                <a:lnTo>
                  <a:pt x="1171" y="695"/>
                </a:lnTo>
                <a:lnTo>
                  <a:pt x="1109" y="723"/>
                </a:lnTo>
                <a:lnTo>
                  <a:pt x="1047" y="745"/>
                </a:lnTo>
                <a:lnTo>
                  <a:pt x="984" y="762"/>
                </a:lnTo>
                <a:lnTo>
                  <a:pt x="925" y="774"/>
                </a:lnTo>
                <a:lnTo>
                  <a:pt x="868" y="781"/>
                </a:lnTo>
                <a:lnTo>
                  <a:pt x="814" y="784"/>
                </a:lnTo>
                <a:lnTo>
                  <a:pt x="721" y="780"/>
                </a:lnTo>
                <a:lnTo>
                  <a:pt x="631" y="771"/>
                </a:lnTo>
                <a:lnTo>
                  <a:pt x="546" y="755"/>
                </a:lnTo>
                <a:lnTo>
                  <a:pt x="466" y="734"/>
                </a:lnTo>
                <a:lnTo>
                  <a:pt x="390" y="707"/>
                </a:lnTo>
                <a:lnTo>
                  <a:pt x="320" y="675"/>
                </a:lnTo>
                <a:lnTo>
                  <a:pt x="254" y="639"/>
                </a:lnTo>
                <a:lnTo>
                  <a:pt x="194" y="598"/>
                </a:lnTo>
                <a:lnTo>
                  <a:pt x="138" y="553"/>
                </a:lnTo>
                <a:lnTo>
                  <a:pt x="87" y="505"/>
                </a:lnTo>
                <a:lnTo>
                  <a:pt x="41" y="453"/>
                </a:lnTo>
                <a:lnTo>
                  <a:pt x="0" y="399"/>
                </a:lnTo>
                <a:lnTo>
                  <a:pt x="0" y="399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40200" y="3135240"/>
            <a:ext cx="341316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Special Interes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Channe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4960" y="2371680"/>
            <a:ext cx="20401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TV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generali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76760" y="2371680"/>
            <a:ext cx="20401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TV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ffffff"/>
                </a:solidFill>
                <a:latin typeface="Arial"/>
              </a:rPr>
              <a:t>generali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070E-EBC3-46CD-8F88-F476A795D0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3443400"/>
            <a:ext cx="838080" cy="8380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5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4357800"/>
            <a:ext cx="838080" cy="838080"/>
          </a:xfrm>
          <a:prstGeom prst="ellipse">
            <a:avLst/>
          </a:prstGeom>
          <a:solidFill>
            <a:srgbClr val="44c8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6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2452680"/>
            <a:ext cx="838080" cy="8380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3443400"/>
            <a:ext cx="838080" cy="838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0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stCxn id="306" idx="6"/>
            <a:endCxn id="308" idx="2"/>
          </p:cNvCxnSpPr>
          <p:nvPr/>
        </p:nvCxnSpPr>
        <p:spPr>
          <a:xfrm flipV="1">
            <a:off x="1371600" y="2871360"/>
            <a:ext cx="13723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6" idx="6"/>
            <a:endCxn id="307" idx="2"/>
          </p:cNvCxnSpPr>
          <p:nvPr/>
        </p:nvCxnSpPr>
        <p:spPr>
          <a:xfrm>
            <a:off x="1371600" y="3862440"/>
            <a:ext cx="13723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8" idx="6"/>
            <a:endCxn id="309" idx="2"/>
          </p:cNvCxnSpPr>
          <p:nvPr/>
        </p:nvCxnSpPr>
        <p:spPr>
          <a:xfrm>
            <a:off x="3580920" y="2871720"/>
            <a:ext cx="12200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07" idx="6"/>
            <a:endCxn id="309" idx="2"/>
          </p:cNvCxnSpPr>
          <p:nvPr/>
        </p:nvCxnSpPr>
        <p:spPr>
          <a:xfrm flipV="1">
            <a:off x="3580920" y="3862080"/>
            <a:ext cx="1220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6" idx="6"/>
            <a:endCxn id="309" idx="2"/>
          </p:cNvCxnSpPr>
          <p:nvPr/>
        </p:nvCxnSpPr>
        <p:spPr>
          <a:xfrm>
            <a:off x="1371240" y="3862080"/>
            <a:ext cx="3429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2590920" y="35193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8% [95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2971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14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9909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rrestre analo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3048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VB-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9092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5272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5360" y="6032520"/>
            <a:ext cx="6350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*Stato al 1.9.2003, inkl. Panelzuwand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Basis: Fernsehpanel D+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4c9cf"/>
                </a:solidFill>
                <a:latin typeface="Arial"/>
              </a:rPr>
              <a:t>Quelle: AGF/GfK Fernsehforschung, GfK-Sonderauswer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58492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Switch off Berlino -  Brandenburgo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grazione sulle piattaforme: analsisi su common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ussi dal 1.11.2002 [Switch over] al 1.9.2003 [Switch off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4205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45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4205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20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32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5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31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55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4267080"/>
            <a:ext cx="0" cy="381240"/>
          </a:xfrm>
          <a:prstGeom prst="line">
            <a:avLst/>
          </a:prstGeom>
          <a:ln w="9360">
            <a:solidFill>
              <a:srgbClr val="ef41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4648320"/>
            <a:ext cx="838080" cy="838080"/>
          </a:xfrm>
          <a:prstGeom prst="ellipse">
            <a:avLst/>
          </a:prstGeom>
          <a:solidFill>
            <a:srgbClr val="ef41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5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5500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1E04-C8BD-4600-BEE4-27820A1B4B0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</a:rPr>
              <a:t>In sintesi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5360" y="2070000"/>
            <a:ext cx="825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gitale non é uguale a dig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Germania manca (per ora) una campagna di marketing per il D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gitale significa pluralismo d‘offerta e interattivitá (non ovun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l pluralismo dell‘offerta non significa framment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‘interattivitá apre un nuovo golden age per la television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binazione di push + pull ed emozione + dialog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5C6D-63B2-489E-A7CD-FCA5F3813EB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594320" y="3025800"/>
            <a:ext cx="660240" cy="56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84D7-229F-4C54-ABAB-2CDB2C4335CA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Obiettivi diversi del digitale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pic>
        <p:nvPicPr>
          <p:cNvPr id="123" name="europa" descr="EUROPA Flagge"/>
          <p:cNvPicPr/>
          <p:nvPr/>
        </p:nvPicPr>
        <p:blipFill>
          <a:blip r:embed="rId1"/>
          <a:stretch/>
        </p:blipFill>
        <p:spPr>
          <a:xfrm>
            <a:off x="533520" y="2133720"/>
            <a:ext cx="2133360" cy="1317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4800" y="2133720"/>
            <a:ext cx="55944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uropa: aumento dell‘offerta come motore principale [da 5 a 30 canal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gitale con o senza visione politica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T-government, Digital Dividen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 risultati a seconda dello standard impos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VB / DVB + interattivit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BA09-CE13-4D86-A101-E365C02B27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84280" y="2070000"/>
            <a:ext cx="825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U.K. set top box con MH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Italia quasi esclusivamente set top box M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Francia e Spagna zap-box e box M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Germania zap-box =&gt; 60.000 box MHP Boxen su 6,4 Mio (&lt; 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90440"/>
                <a:tab algn="l" pos="571680"/>
                <a:tab algn="l" pos="952560"/>
                <a:tab algn="l" pos="133344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2400" y="5842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Interattivitá digitale: perdiamo un treno?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360" y="1301760"/>
            <a:ext cx="8128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fferenti specificazioni per il dig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4B60-4C8C-49AC-8C65-BEA3FD2B6E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1ea5"/>
                </a:solidFill>
                <a:latin typeface="Arial"/>
              </a:rPr>
              <a:t>Continuum mediale nel mondo digitale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9880" y="1992240"/>
            <a:ext cx="2587680" cy="31608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50000">
                <a:srgbClr val="e6e6e6"/>
              </a:gs>
              <a:gs pos="100000">
                <a:srgbClr val="6a6a6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4360" y="1992240"/>
            <a:ext cx="2517840" cy="31608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50000">
                <a:srgbClr val="e6e6e6"/>
              </a:gs>
              <a:gs pos="100000">
                <a:srgbClr val="6a6a6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711520"/>
            <a:ext cx="846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tex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-Crawl/ I-Tex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HP &amp; 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7520" y="2449440"/>
            <a:ext cx="2544480" cy="762120"/>
          </a:xfrm>
          <a:custGeom>
            <a:avLst/>
            <a:gdLst>
              <a:gd name="textAreaLeft" fmla="*/ 0 w 2544480"/>
              <a:gd name="textAreaRight" fmla="*/ 2544840 w 2544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81360" y="2449440"/>
            <a:ext cx="2463840" cy="76212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88280" y="2449440"/>
            <a:ext cx="2517480" cy="762120"/>
          </a:xfrm>
          <a:custGeom>
            <a:avLst/>
            <a:gdLst>
              <a:gd name="textAreaLeft" fmla="*/ 0 w 2517480"/>
              <a:gd name="textAreaRight" fmla="*/ 2517840 w 2517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7520" y="3664080"/>
            <a:ext cx="841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TV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S/MMS-to-TV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t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ch analo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7520" y="3402000"/>
            <a:ext cx="2544480" cy="762120"/>
          </a:xfrm>
          <a:custGeom>
            <a:avLst/>
            <a:gdLst>
              <a:gd name="textAreaLeft" fmla="*/ 0 w 2544480"/>
              <a:gd name="textAreaRight" fmla="*/ 2544840 w 2544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78200" y="3414600"/>
            <a:ext cx="2367000" cy="762120"/>
          </a:xfrm>
          <a:custGeom>
            <a:avLst/>
            <a:gdLst>
              <a:gd name="textAreaLeft" fmla="*/ 0 w 2367000"/>
              <a:gd name="textAreaRight" fmla="*/ 2367360 w 2367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8280" y="3478320"/>
            <a:ext cx="2517480" cy="761760"/>
          </a:xfrm>
          <a:custGeom>
            <a:avLst/>
            <a:gdLst>
              <a:gd name="textAreaLeft" fmla="*/ 0 w 2517480"/>
              <a:gd name="textAreaRight" fmla="*/ 2517840 w 251748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200" y="4390920"/>
            <a:ext cx="2587680" cy="1311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0200" y="4759200"/>
            <a:ext cx="227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ting und Gaming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via Telef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e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35800" y="4683240"/>
            <a:ext cx="2512800" cy="101916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25720" y="4761000"/>
            <a:ext cx="227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ture SMS-C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MS-to-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t-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88280" y="1981080"/>
            <a:ext cx="2517480" cy="31608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50000">
                <a:srgbClr val="e6e6e6"/>
              </a:gs>
              <a:gs pos="100000">
                <a:srgbClr val="6a6a6a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7520" y="1400040"/>
            <a:ext cx="5584680" cy="307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do ana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413000"/>
            <a:ext cx="2528640" cy="307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do digit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73440" y="4683240"/>
            <a:ext cx="2538360" cy="1006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8080" y="4697280"/>
            <a:ext cx="2365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G / TV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-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V advert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5200" y="4387680"/>
            <a:ext cx="258768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73440" y="4378320"/>
            <a:ext cx="254628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35800" y="4378320"/>
            <a:ext cx="25178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E802-A080-49FC-8C08-FD1ABD3F43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1600" y="544680"/>
            <a:ext cx="8001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</a:rPr>
              <a:t>Interattivitá per la televisione analogica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683560" y="406440"/>
            <a:ext cx="625680" cy="507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6120" y="1371600"/>
            <a:ext cx="8997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0" tIns="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ty, il telecomando interat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70846" t="8313" r="8334" b="3719"/>
          <a:stretch/>
        </p:blipFill>
        <p:spPr>
          <a:xfrm>
            <a:off x="6172200" y="1447920"/>
            <a:ext cx="1314360" cy="4190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848720" y="3319560"/>
            <a:ext cx="442800" cy="219852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8153280" y="2362320"/>
            <a:ext cx="1430280" cy="1014120"/>
            <a:chOff x="8153280" y="2362320"/>
            <a:chExt cx="1430280" cy="1014120"/>
          </a:xfrm>
        </p:grpSpPr>
        <p:pic>
          <p:nvPicPr>
            <p:cNvPr id="157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8153280" y="2362320"/>
              <a:ext cx="143028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178120" y="3102120"/>
              <a:ext cx="38448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33520" y="205740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B7FC-9B32-4E5C-851D-FEF1452384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037120" y="6284880"/>
            <a:ext cx="182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80E8-49D8-4502-99DE-8C1F258876EE}" type="slidenum">
              <a:rPr b="0" lang="de-DE" sz="1000" spc="-1" strike="noStrike">
                <a:solidFill>
                  <a:srgbClr val="c4c9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0720" y="6280200"/>
            <a:ext cx="410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c4c9c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9800" y="2082960"/>
          <a:ext cx="872352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2082960"/>
                    <a:ext cx="872352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0360" y="54144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</a:rPr>
              <a:t>Interattivitá per la televisione analogica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7840" y="6335640"/>
            <a:ext cx="44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9cf"/>
                </a:solidFill>
                <a:latin typeface="Arial"/>
              </a:rPr>
              <a:t>Basis: 198.619 Kontakte Gesam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9cf"/>
                </a:solidFill>
                <a:latin typeface="Arial"/>
              </a:rPr>
              <a:t>Quelle: Betty Mitmach-TV / SevenOne Medi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6120" y="5530680"/>
            <a:ext cx="5079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lori percen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6120" y="1371600"/>
            <a:ext cx="8997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0" tIns="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rtecipazione media per tipo d‘of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683560" y="406440"/>
            <a:ext cx="62568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screentastatur_hand" descr=""/>
          <p:cNvPicPr/>
          <p:nvPr/>
        </p:nvPicPr>
        <p:blipFill>
          <a:blip r:embed="rId4"/>
          <a:stretch/>
        </p:blipFill>
        <p:spPr>
          <a:xfrm>
            <a:off x="7089840" y="4043520"/>
            <a:ext cx="221436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0360" y="5461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181ea5"/>
                </a:solidFill>
                <a:latin typeface="Arial"/>
              </a:rPr>
              <a:t>Nuove fantasie e misurabilitá per la TV</a:t>
            </a:r>
            <a:endParaRPr b="1" lang="en-US" sz="26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86280" y="2057400"/>
            <a:ext cx="6072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UK 610 campagne interattive fino a gen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Circa 200 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Mercato principale: automobili (&gt; 80 campag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Misure basate sul response e R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Monitoring del comportamento dello spetta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Respons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71096" descr=""/>
          <p:cNvPicPr/>
          <p:nvPr/>
        </p:nvPicPr>
        <p:blipFill>
          <a:blip r:embed="rId1"/>
          <a:srcRect l="0" t="0" r="16675" b="0"/>
          <a:stretch/>
        </p:blipFill>
        <p:spPr>
          <a:xfrm>
            <a:off x="530280" y="2131920"/>
            <a:ext cx="3203640" cy="25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AE89-E388-45DB-B2FD-C8F17B22A3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8297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Specifiche del mercato tedesco</a:t>
            </a:r>
            <a:r>
              <a:rPr b="1" lang="de-DE" sz="2800" spc="-1" strike="noStrike">
                <a:solidFill>
                  <a:srgbClr val="181ea5"/>
                </a:solidFill>
                <a:latin typeface="Arial"/>
                <a:ea typeface="Times New Roman"/>
              </a:rPr>
              <a:t>	</a:t>
            </a:r>
            <a:endParaRPr b="1" lang="en-US" sz="2800" spc="-1" strike="noStrike">
              <a:solidFill>
                <a:srgbClr val="181ea5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3120" y="2117880"/>
            <a:ext cx="559440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mento della segmentazione nei mercati degli ascolti e della pubblicitá [meno in Germani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varietá d‘offerta che gli altri paesi vogliono raggiungere, esiste da tempo in Ger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VB-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≠ DVB-T (Germania vs. altri paesi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able indoor mobile Standard“: 4 can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nza interattivitá o 3 canali con interattivitá vs. 6 canali + applicazioni interat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VB-H in sperimentazione (Berli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33520" y="2133720"/>
            <a:ext cx="2131920" cy="1294200"/>
            <a:chOff x="533520" y="2133720"/>
            <a:chExt cx="2131920" cy="129420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40000" y="2150640"/>
              <a:ext cx="2125440" cy="12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33520" y="2133720"/>
              <a:ext cx="211464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ADF1-DE08-49A3-AC78-204C2B1F28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07:16:12Z</dcterms:created>
  <dc:creator>xx65f</dc:creator>
  <dc:description/>
  <dc:language>en-US</dc:language>
  <cp:lastModifiedBy>ma01a</cp:lastModifiedBy>
  <dcterms:modified xsi:type="dcterms:W3CDTF">2005-06-09T16:55:55Z</dcterms:modified>
  <cp:revision>308</cp:revision>
  <dc:subject/>
  <dc:title>PowerPoint-Präsentation</dc:title>
</cp:coreProperties>
</file>